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jpeg" ContentType="image/jpeg"/>
  <Override PartName="/ppt/media/image22.png" ContentType="image/png"/>
  <Override PartName="/ppt/media/image4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7E2D-1205-4283-A2FD-79CE2867E5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0A61-6E74-4E1A-9B94-A0F153EB1E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 promotion and education being an important input to modify the negative outc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D8D2-5DDB-4F70-A109-8147C9D301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stments in education can yield huge benef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AF9A-4ED1-4E90-9432-6E81549823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A301-7043-4CAB-B937-E4EC9E15BD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B484-0128-4A4B-9872-09C013E84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FA70-C7E8-4B95-AEB1-44B17BA0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D577-817F-4023-BA3C-C94A579E8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BC02-A6B2-491E-8B41-8132B685B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EA36-6299-4952-9727-33B548F8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D1D2-A828-47BA-8272-BC2EB777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DF8A-1FB4-4AC8-BD37-5B6D50E5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7773-E50A-476D-B47F-0FD69F54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2DEA-F688-4BEC-A75C-1FF64F32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B8F0-DCDF-43C3-BC29-718080EF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AA14-69B7-42DE-BC29-8911F107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8714-388F-4B45-B039-D8B0F146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71A6-E6B7-4882-805A-2550B6BE3A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a-IN" sz="1200" spc="-1" strike="noStrike">
                <a:solidFill>
                  <a:srgbClr val="898989"/>
                </a:solidFill>
                <a:latin typeface="Calibri"/>
                <a:cs typeface="Lath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4330-60E2-4491-93BE-155BDAB787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458200" cy="1676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4000" spc="-1" strike="noStrike">
                <a:solidFill>
                  <a:srgbClr val="ffffff"/>
                </a:solidFill>
                <a:latin typeface="Calibri"/>
                <a:cs typeface="Latha"/>
              </a:rPr>
              <a:t>பள்ளிகளில் மாணவர்களின் சுகாதாரமும் நலவாழ்வும்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42667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தேசிய கல்வியியல் ஆராய்ச்சி மற்றும் பயிற்சி குழுமம்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புதுடெல்ல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7AE8-5D2C-446A-81F3-642897281B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9907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400" spc="-1" strike="noStrike">
                <a:solidFill>
                  <a:srgbClr val="ffffff"/>
                </a:solidFill>
                <a:latin typeface="Calibri"/>
                <a:cs typeface="Latha"/>
              </a:rPr>
              <a:t>தனியாள் ஆய்வு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1 </a:t>
            </a:r>
            <a:r>
              <a:rPr b="1" lang="ta-IN" sz="2400" spc="-1" strike="noStrike">
                <a:solidFill>
                  <a:srgbClr val="ffffff"/>
                </a:solidFill>
                <a:latin typeface="Calibri"/>
                <a:cs typeface="Latha"/>
              </a:rPr>
              <a:t>நண்பர்களின் நேர்மறை மற்றும் எதிர்மறை தாக்கங்கள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1320" y="990720"/>
            <a:ext cx="8504280" cy="5867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a-IN" sz="1500" spc="-1" strike="noStrike">
                <a:solidFill>
                  <a:srgbClr val="000000"/>
                </a:solidFill>
                <a:latin typeface="Calibri"/>
                <a:cs typeface="Latha"/>
              </a:rPr>
              <a:t>டேவிட் பள்ளியிலும்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500" spc="-1" strike="noStrike">
                <a:solidFill>
                  <a:srgbClr val="000000"/>
                </a:solidFill>
                <a:latin typeface="Calibri"/>
                <a:cs typeface="Latha"/>
              </a:rPr>
              <a:t>வீட்டிலும் எப்பொழுதும் படித்துக்கொண்டு அவன் எப்பொழுதும் நல்ல மதிப்பெண்களைப் பெறுவான்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500" spc="-1" strike="noStrike">
                <a:solidFill>
                  <a:srgbClr val="000000"/>
                </a:solidFill>
                <a:latin typeface="Calibri"/>
                <a:cs typeface="Latha"/>
              </a:rPr>
              <a:t>வேறு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பொழுதுபோக்கில் </a:t>
            </a:r>
            <a:r>
              <a:rPr b="0" lang="ta-IN" sz="1500" spc="-1" strike="noStrike">
                <a:solidFill>
                  <a:srgbClr val="000000"/>
                </a:solidFill>
                <a:latin typeface="Calibri"/>
                <a:cs typeface="Latha"/>
              </a:rPr>
              <a:t>அவ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னு</a:t>
            </a:r>
            <a:r>
              <a:rPr b="0" lang="ta-IN" sz="1500" spc="-1" strike="noStrike">
                <a:solidFill>
                  <a:srgbClr val="000000"/>
                </a:solidFill>
                <a:latin typeface="Calibri"/>
                <a:cs typeface="Latha"/>
              </a:rPr>
              <a:t>க்கு நாட்டம் இல்லை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500" spc="-1" strike="noStrike">
                <a:solidFill>
                  <a:srgbClr val="000000"/>
                </a:solidFill>
                <a:latin typeface="Calibri"/>
                <a:cs typeface="Latha"/>
              </a:rPr>
              <a:t>புதிய பள்ளியில்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11-</a:t>
            </a:r>
            <a:r>
              <a:rPr b="0" lang="ta-IN" sz="1500" spc="-1" strike="noStrike">
                <a:solidFill>
                  <a:srgbClr val="000000"/>
                </a:solidFill>
                <a:latin typeface="Calibri"/>
                <a:cs typeface="Latha"/>
              </a:rPr>
              <a:t>ஆம் வகுப்பில் சேர்ந்து பயிலும்பொழுது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500" spc="-1" strike="noStrike">
                <a:solidFill>
                  <a:srgbClr val="000000"/>
                </a:solidFill>
                <a:latin typeface="Calibri"/>
                <a:cs typeface="Latha"/>
              </a:rPr>
              <a:t>ஜாகீர் மற்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று</a:t>
            </a:r>
            <a:r>
              <a:rPr b="0" lang="ta-IN" sz="1500" spc="-1" strike="noStrike">
                <a:solidFill>
                  <a:srgbClr val="000000"/>
                </a:solidFill>
                <a:latin typeface="Calibri"/>
                <a:cs typeface="Latha"/>
              </a:rPr>
              <a:t>ம் மாயவன்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ஆகியோன் </a:t>
            </a:r>
            <a:r>
              <a:rPr b="0" lang="ta-IN" sz="1500" spc="-1" strike="noStrike">
                <a:solidFill>
                  <a:srgbClr val="000000"/>
                </a:solidFill>
                <a:latin typeface="Calibri"/>
                <a:cs typeface="Latha"/>
              </a:rPr>
              <a:t>நண்பர்களாகின்றனர்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500" spc="-1" strike="noStrike">
                <a:solidFill>
                  <a:srgbClr val="000000"/>
                </a:solidFill>
                <a:latin typeface="Calibri"/>
                <a:cs typeface="Latha"/>
              </a:rPr>
              <a:t>இருவ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ரு</a:t>
            </a:r>
            <a:r>
              <a:rPr b="0" lang="ta-IN" sz="1500" spc="-1" strike="noStrike">
                <a:solidFill>
                  <a:srgbClr val="000000"/>
                </a:solidFill>
                <a:latin typeface="Calibri"/>
                <a:cs typeface="Latha"/>
              </a:rPr>
              <a:t>ம் கிரிக்கெட் விளையாட்டில் அதிக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ஆர்வம் </a:t>
            </a:r>
            <a:r>
              <a:rPr b="0" lang="ta-IN" sz="1500" spc="-1" strike="noStrike">
                <a:solidFill>
                  <a:srgbClr val="000000"/>
                </a:solidFill>
                <a:latin typeface="Calibri"/>
                <a:cs typeface="Latha"/>
              </a:rPr>
              <a:t>உடையவர்கள்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500" spc="-1" strike="noStrike">
                <a:solidFill>
                  <a:srgbClr val="000000"/>
                </a:solidFill>
                <a:latin typeface="Calibri"/>
                <a:cs typeface="Latha"/>
              </a:rPr>
              <a:t>டேவிட் அவர்களோடு சேர்ந்து கிரிக்கெட் விளையாடு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ம்போது </a:t>
            </a:r>
            <a:r>
              <a:rPr b="0" lang="ta-IN" sz="1500" spc="-1" strike="noStrike">
                <a:solidFill>
                  <a:srgbClr val="000000"/>
                </a:solidFill>
                <a:latin typeface="Calibri"/>
                <a:cs typeface="Latha"/>
              </a:rPr>
              <a:t>தன்னை சிறந்த சுழற்பந்து வீச்சாளராக அடையாளம் காண்கிறா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ன்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500" spc="-1" strike="noStrike">
                <a:solidFill>
                  <a:srgbClr val="000000"/>
                </a:solidFill>
                <a:latin typeface="Calibri"/>
                <a:cs typeface="Latha"/>
              </a:rPr>
              <a:t>டேவிட்டின்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பெற்றோர்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அவன் </a:t>
            </a:r>
            <a:r>
              <a:rPr b="0" lang="ta-IN" sz="1500" spc="-1" strike="noStrike">
                <a:solidFill>
                  <a:srgbClr val="000000"/>
                </a:solidFill>
                <a:latin typeface="Calibri"/>
                <a:cs typeface="Latha"/>
              </a:rPr>
              <a:t>அதிக நேரத்தை விளையாட்டில் செலவிடுவதால் அவனது படிப்பு பாதிக்கப்படுவதைக் கண்டு கவலைப்படுகின்றனர்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500" spc="-1" strike="noStrike">
                <a:solidFill>
                  <a:srgbClr val="000000"/>
                </a:solidFill>
                <a:latin typeface="Calibri"/>
                <a:cs typeface="Latha"/>
              </a:rPr>
              <a:t>டேவிட்டிடம் ஜாகீர் மற்றும் மாயவன் ஆகியோர் நேர்மறையான ஆதிக்கம் செலுத்துவதாக நீங்கள் கருதுகிறீர்களா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500" spc="-1" strike="noStrike">
                <a:solidFill>
                  <a:srgbClr val="000000"/>
                </a:solidFill>
                <a:latin typeface="Calibri"/>
                <a:cs typeface="Latha"/>
              </a:rPr>
              <a:t>டேவிட்டின் புதிய பழக்கத்தினால் பெற்றோர் கவலையுறுவது சரியென நினைக்கிறீர்களா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500" spc="-1" strike="noStrike">
                <a:solidFill>
                  <a:srgbClr val="000000"/>
                </a:solidFill>
                <a:latin typeface="Calibri"/>
                <a:cs typeface="Latha"/>
              </a:rPr>
              <a:t>டேவிட்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டின் பெற்றொருக்கு ஏற்பட்ட கவலையைக் </a:t>
            </a:r>
            <a:r>
              <a:rPr b="0" lang="ta-IN" sz="1500" spc="-1" strike="noStrike">
                <a:solidFill>
                  <a:srgbClr val="000000"/>
                </a:solidFill>
                <a:latin typeface="Calibri"/>
                <a:cs typeface="Latha"/>
              </a:rPr>
              <a:t>குறைப்பதில் ஆசிரியரின் பங்களிப்பு என்ன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500" spc="-1" strike="noStrike">
                <a:solidFill>
                  <a:srgbClr val="000000"/>
                </a:solidFill>
                <a:latin typeface="Calibri"/>
                <a:cs typeface="Latha"/>
              </a:rPr>
              <a:t>டேவிட் கிரிக்கெட்டைத் தொடர்ந்து விளையாடலாமா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ta-IN" sz="1500" spc="-1" strike="noStrike">
                <a:solidFill>
                  <a:srgbClr val="000000"/>
                </a:solidFill>
                <a:latin typeface="Calibri"/>
                <a:cs typeface="Latha"/>
              </a:rPr>
              <a:t>ஏன்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A38E-7B67-4B16-AD79-EFEE5914D9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320" y="-360"/>
            <a:ext cx="8534520" cy="106668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800" spc="-1" strike="noStrike">
                <a:solidFill>
                  <a:srgbClr val="ffffff"/>
                </a:solidFill>
                <a:latin typeface="Calibri"/>
                <a:cs typeface="Latha"/>
              </a:rPr>
              <a:t>தனியாள் ஆய்வு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2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வளர்ச்சி மற்றும் முன்னேற்றத்தில் ஏற்படும் மாற்றங்கள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1320" y="1219320"/>
            <a:ext cx="8504280" cy="54100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திலிபன் மற்றும்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அழகன்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ஆகியோர் பள்ளியில் இருந்து வீட்டிற்கு நடந்து செல்கிறார்கள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திலிபன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அழகனின்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பெண் கு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லைக் 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கேலி செய்கிறான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அழகனின் உதட்டின் மேல் மீசை இல்லாதத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யும்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திலிபன்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கேலி செய்து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சிரிக்கிற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ன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“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என்னைப் பார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நான் ஓர்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ஆண்மகன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எனது குரல் மற்றும் முகம் ஆடவரைப் போன்றுள்ளத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என் முகத்தில்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மீசை வளர ஆரம்பித்துள்ளத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அதனால்தான்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ea typeface="Latha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என் அப்பா என்னைச் சிங்கம் என்று  அழைப்பார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”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எ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ன்று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கூறினான் திலிபன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இது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அழகனுக்கு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மிகுந்த மன வருத்தத்தை அளித்தத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‘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என் செல்ல மகனே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’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எ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ன்று தன்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அன்னை அழைப்பதை நினைவு கூருகிற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ன்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அழகன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வீட்டுக்குச் சென்றபிறகு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ea typeface="Latha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தன்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அன்னையிட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சென்று 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திலிப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னிடமிருந்து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நான்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ஏன்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வேறுபடுகின்றேன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எனக்கு ஏதாவது பிரச்சனைய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? 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கேட்க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முடிவு செய்கிறான் அழகன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33B0-FB70-4867-9730-AC06EC7ABD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10670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ta-IN" sz="2400" spc="-1" strike="noStrike">
                <a:solidFill>
                  <a:srgbClr val="ffffff"/>
                </a:solidFill>
                <a:latin typeface="Calibri"/>
                <a:cs typeface="Latha"/>
              </a:rPr>
              <a:t>தனியாள் ஆய்வு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3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உடல் வெளித்தோற்றம் குறித்த பொதுவான கருத்துகள்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34440" y="1371240"/>
            <a:ext cx="8504280" cy="5334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-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ஆம் வகுப்பு பயிலும் கலைச்செல்வி மற்றும் அ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ளுடைய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நண்பர்கள்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பள்ளி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ஆண்டு விழாவிற்க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கக்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தய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ராகிறார்கள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மாணவர்கள்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அனைவரும்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உற்சாகத்துடன் காணப்படுகிறார்கள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கலைச்செல்வி பாரம்பரிய நடனப் போட்டியில் பங்கேற்க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அவரது நண்பர்கள் அனிதா மற்றும் புவனா நாடகத்திலும் பங்கேற்கிறார்கள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ஒரு நாள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பயிற்சியின்போது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நீ மிகவும் கருப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பாக இருக்கிறாய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மேடையில் உன்னைப் பார்க்கவேண்டும் என்றால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கூடுத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லான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வெளிச்சம் தேவைப்படு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’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என அனித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கலைச்செல்வியைக் கேலி செய்தாள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அதற்க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க்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கலைச்செல்வி எந்தக் கருத்தையும் கூறவில்லை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இவ்வாற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கேலி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செய்வது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புவன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விற்கு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வருத்த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மாக இருந்தத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494A-90BB-4F8A-AAB9-673843180E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098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ta-IN" sz="2400" spc="-1" strike="noStrike">
                <a:solidFill>
                  <a:srgbClr val="ffffff"/>
                </a:solidFill>
                <a:latin typeface="Calibri"/>
                <a:cs typeface="Latha"/>
              </a:rPr>
              <a:t>தனியாள் ஆய்வு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3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தொடர்ச்சி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1320" y="838080"/>
            <a:ext cx="8504280" cy="5562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கலைச்செல்வியைப் பார்த்து புவன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‘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நீ சிறப்பாக நடனமாடுகிறாய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உன் முக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ம் பொலிவாக ஏதேனும்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அழகு பசையை ஏன் பயன்படுத்தவில்ல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?’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நீ குறைந்த அளவு முகப்பசையினைப் பயன்படுத்தினால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மேடையில் எவ்வளவு அழகாய்ப் பொலிவுடன் தோன்றுவாய்  எனக் கற்பனை செய்ய முடிகிறத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எனக் கூறினாள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கலைச்செல்வி சிரிப்புடன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நன்றி புவன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என்மீது உள்ள அக்கறைக்கு மகிழ்ச்சி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ஆனால்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ea typeface="Latha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எனது முகமேனி தோற்றமே போதுமானத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என் ஆசிரியரின் வழிக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ட்டுதலோட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நானும்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நடனத்தை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நன்றாகப் பயிற்சி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செய்து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வருகிறேன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என் முயற்சி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யு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உ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ன்னுடைய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வாழ்த்துக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ளும்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சேர்ந்து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என்னைச்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சிறப்பாகச் செயல்பட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வைக்க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உதவும் என்ப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தை நான்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ந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புகிறேன்”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8E13-AF87-4C55-9063-ED0C58DC55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800" spc="-1" strike="noStrike">
                <a:solidFill>
                  <a:srgbClr val="ffffff"/>
                </a:solidFill>
                <a:latin typeface="Calibri"/>
                <a:cs typeface="Latha"/>
              </a:rPr>
              <a:t>தனியாள் ஆய்வு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4  </a:t>
            </a:r>
            <a:br>
              <a:rPr sz="2800"/>
            </a:br>
            <a:r>
              <a:rPr b="1" lang="ta-IN" sz="2800" spc="-1" strike="noStrike">
                <a:solidFill>
                  <a:srgbClr val="ffffff"/>
                </a:solidFill>
                <a:latin typeface="Calibri"/>
                <a:cs typeface="Latha"/>
              </a:rPr>
              <a:t>நட்பும் கொடுமையும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1320" y="1526760"/>
            <a:ext cx="8504280" cy="50259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algn="just">
              <a:lnSpc>
                <a:spcPct val="1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400" spc="-1" strike="noStrike">
                <a:solidFill>
                  <a:srgbClr val="000000"/>
                </a:solidFill>
                <a:latin typeface="Calibri"/>
                <a:cs typeface="Latha"/>
              </a:rPr>
              <a:t>அன்பு மற்றும் முத்து ஆகியோர் பள்ளி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க்கு அருகில் </a:t>
            </a:r>
            <a:r>
              <a:rPr b="0" lang="ta-IN" sz="1400" spc="-1" strike="noStrike">
                <a:solidFill>
                  <a:srgbClr val="000000"/>
                </a:solidFill>
                <a:latin typeface="Calibri"/>
                <a:cs typeface="Latha"/>
              </a:rPr>
              <a:t>உள்ள கடையில் ஒரு இசை குறுந்தக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டு ஒன்றை </a:t>
            </a:r>
            <a:r>
              <a:rPr b="0" lang="ta-IN" sz="1400" spc="-1" strike="noStrike">
                <a:solidFill>
                  <a:srgbClr val="000000"/>
                </a:solidFill>
                <a:latin typeface="Calibri"/>
                <a:cs typeface="Latha"/>
              </a:rPr>
              <a:t>வாங்குகிறார்கள்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400" spc="-1" strike="noStrike">
                <a:solidFill>
                  <a:srgbClr val="000000"/>
                </a:solidFill>
                <a:latin typeface="Calibri"/>
                <a:cs typeface="Latha"/>
              </a:rPr>
              <a:t>அப்பொழுது</a:t>
            </a:r>
            <a:r>
              <a:rPr b="0" lang="ta-IN" sz="1400" spc="-1" strike="noStrike">
                <a:solidFill>
                  <a:srgbClr val="000000"/>
                </a:solidFill>
                <a:latin typeface="Calibri"/>
                <a:ea typeface="Latha"/>
              </a:rPr>
              <a:t>, </a:t>
            </a:r>
            <a:r>
              <a:rPr b="0" lang="ta-IN" sz="1400" spc="-1" strike="noStrike">
                <a:solidFill>
                  <a:srgbClr val="000000"/>
                </a:solidFill>
                <a:latin typeface="Calibri"/>
                <a:cs typeface="Latha"/>
              </a:rPr>
              <a:t>பாரி வீட்டுக்குச் செல்வதை கவனிக்கிறார்கள்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400" spc="-1" strike="noStrike">
                <a:solidFill>
                  <a:srgbClr val="000000"/>
                </a:solidFill>
                <a:latin typeface="Calibri"/>
                <a:cs typeface="Latha"/>
              </a:rPr>
              <a:t>அவனைப் பிடித்த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வைத்த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400" spc="-1" strike="noStrike">
                <a:solidFill>
                  <a:srgbClr val="000000"/>
                </a:solidFill>
                <a:latin typeface="Calibri"/>
                <a:cs typeface="Latha"/>
              </a:rPr>
              <a:t>பணம் தருமாறு கொடுமைப் படுத்துகிறார்கள்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400" spc="-1" strike="noStrike">
                <a:solidFill>
                  <a:srgbClr val="000000"/>
                </a:solidFill>
                <a:latin typeface="Calibri"/>
                <a:cs typeface="Latha"/>
              </a:rPr>
              <a:t>அதற்கு</a:t>
            </a:r>
            <a:r>
              <a:rPr b="0" lang="ta-IN" sz="1400" spc="-1" strike="noStrike">
                <a:solidFill>
                  <a:srgbClr val="000000"/>
                </a:solidFill>
                <a:latin typeface="Calibri"/>
                <a:ea typeface="Latha"/>
              </a:rPr>
              <a:t>, </a:t>
            </a:r>
            <a:r>
              <a:rPr b="0" lang="ta-IN" sz="1400" spc="-1" strike="noStrike">
                <a:solidFill>
                  <a:srgbClr val="000000"/>
                </a:solidFill>
                <a:latin typeface="Calibri"/>
                <a:cs typeface="Latha"/>
              </a:rPr>
              <a:t>பாரி மறுக்கிறா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ன்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400" spc="-1" strike="noStrike">
                <a:solidFill>
                  <a:srgbClr val="000000"/>
                </a:solidFill>
                <a:latin typeface="Calibri"/>
                <a:cs typeface="Latha"/>
              </a:rPr>
              <a:t>ஏனெனில்</a:t>
            </a:r>
            <a:r>
              <a:rPr b="0" lang="ta-IN" sz="1400" spc="-1" strike="noStrike">
                <a:solidFill>
                  <a:srgbClr val="000000"/>
                </a:solidFill>
                <a:latin typeface="Calibri"/>
                <a:ea typeface="Latha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9 </a:t>
            </a:r>
            <a:r>
              <a:rPr b="0" lang="ta-IN" sz="1400" spc="-1" strike="noStrike">
                <a:solidFill>
                  <a:srgbClr val="000000"/>
                </a:solidFill>
                <a:latin typeface="Calibri"/>
                <a:cs typeface="Latha"/>
              </a:rPr>
              <a:t>ஆம் வகுப்பு சேர்ந்ததிலிருந்தே இருவரும் பல முறை பணம் வாங்கியும் திருப்பித் தரவில்லை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400" spc="-1" strike="noStrike">
                <a:solidFill>
                  <a:srgbClr val="000000"/>
                </a:solidFill>
                <a:latin typeface="Calibri"/>
                <a:cs typeface="Latha"/>
              </a:rPr>
              <a:t>பாரி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பணம் தர </a:t>
            </a:r>
            <a:r>
              <a:rPr b="0" lang="ta-IN" sz="1400" spc="-1" strike="noStrike">
                <a:solidFill>
                  <a:srgbClr val="000000"/>
                </a:solidFill>
                <a:latin typeface="Calibri"/>
                <a:cs typeface="Latha"/>
              </a:rPr>
              <a:t>மறுக்கிறான்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400" spc="-1" strike="noStrike">
                <a:solidFill>
                  <a:srgbClr val="000000"/>
                </a:solidFill>
                <a:latin typeface="Calibri"/>
                <a:cs typeface="Latha"/>
              </a:rPr>
              <a:t>அவனைக் கீழே விழும்வரைத் தள்ளி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400" spc="-1" strike="noStrike">
                <a:solidFill>
                  <a:srgbClr val="000000"/>
                </a:solidFill>
                <a:latin typeface="Calibri"/>
                <a:cs typeface="Latha"/>
              </a:rPr>
              <a:t>அவன் பணத்தை பறித்துக்கொண்டு ஓடிவி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டுகிறார்கள்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400" spc="-1" strike="noStrike">
                <a:solidFill>
                  <a:srgbClr val="000000"/>
                </a:solidFill>
                <a:latin typeface="Calibri"/>
                <a:cs typeface="Latha"/>
              </a:rPr>
              <a:t>பாரியினுடைய ஆசிரியர்</a:t>
            </a:r>
            <a:r>
              <a:rPr b="0" lang="ta-IN" sz="1400" spc="-1" strike="noStrike">
                <a:solidFill>
                  <a:srgbClr val="000000"/>
                </a:solidFill>
                <a:latin typeface="Calibri"/>
                <a:ea typeface="Latha"/>
              </a:rPr>
              <a:t>, </a:t>
            </a:r>
            <a:r>
              <a:rPr b="0" lang="ta-IN" sz="1400" spc="-1" strike="noStrike">
                <a:solidFill>
                  <a:srgbClr val="000000"/>
                </a:solidFill>
                <a:latin typeface="Calibri"/>
                <a:cs typeface="Latha"/>
              </a:rPr>
              <a:t>வீடு திரும்புகையில் பாரி  விழுந்திருப்பதைக் காண்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ட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400" spc="-1" strike="noStrike">
                <a:solidFill>
                  <a:srgbClr val="000000"/>
                </a:solidFill>
                <a:latin typeface="Calibri"/>
                <a:cs typeface="Latha"/>
              </a:rPr>
              <a:t>அவன் எழுந்து நிற்பதற்கு உதவுகிறார்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400" spc="-1" strike="noStrike">
                <a:solidFill>
                  <a:srgbClr val="000000"/>
                </a:solidFill>
                <a:latin typeface="Calibri"/>
                <a:cs typeface="Latha"/>
              </a:rPr>
              <a:t>இந்த நிலைக்கான காரணத்தை ஆசிரியர்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பலமுறை </a:t>
            </a:r>
            <a:r>
              <a:rPr b="0" lang="ta-IN" sz="1400" spc="-1" strike="noStrike">
                <a:solidFill>
                  <a:srgbClr val="000000"/>
                </a:solidFill>
                <a:latin typeface="Calibri"/>
                <a:cs typeface="Latha"/>
              </a:rPr>
              <a:t>கேட்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டும்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400" spc="-1" strike="noStrike">
                <a:solidFill>
                  <a:srgbClr val="000000"/>
                </a:solidFill>
                <a:latin typeface="Calibri"/>
                <a:cs typeface="Latha"/>
              </a:rPr>
              <a:t>பாரி பதில்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கூறவில்லை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400" spc="-1" strike="noStrike">
                <a:solidFill>
                  <a:srgbClr val="000000"/>
                </a:solidFill>
                <a:latin typeface="Calibri"/>
                <a:cs typeface="Latha"/>
              </a:rPr>
              <a:t>அடுத்த நாள்</a:t>
            </a:r>
            <a:r>
              <a:rPr b="0" lang="ta-IN" sz="1400" spc="-1" strike="noStrike">
                <a:solidFill>
                  <a:srgbClr val="000000"/>
                </a:solidFill>
                <a:latin typeface="Calibri"/>
                <a:ea typeface="Latha"/>
              </a:rPr>
              <a:t>, </a:t>
            </a:r>
            <a:r>
              <a:rPr b="0" lang="ta-IN" sz="1400" spc="-1" strike="noStrike">
                <a:solidFill>
                  <a:srgbClr val="000000"/>
                </a:solidFill>
                <a:latin typeface="Calibri"/>
                <a:cs typeface="Latha"/>
              </a:rPr>
              <a:t>இந்த நிகழ்வினைக் கண்ட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அவனது </a:t>
            </a:r>
            <a:r>
              <a:rPr b="0" lang="ta-IN" sz="1400" spc="-1" strike="noStrike">
                <a:solidFill>
                  <a:srgbClr val="000000"/>
                </a:solidFill>
                <a:latin typeface="Calibri"/>
                <a:cs typeface="Latha"/>
              </a:rPr>
              <a:t>வகுப்பறைத் தோழன் பிரபாகரன்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ta-IN" sz="1400" spc="-1" strike="noStrike">
                <a:solidFill>
                  <a:srgbClr val="000000"/>
                </a:solidFill>
                <a:latin typeface="Calibri"/>
                <a:cs typeface="Latha"/>
              </a:rPr>
              <a:t>அன்பு மற்றும் முத்து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பற்றி </a:t>
            </a:r>
            <a:r>
              <a:rPr b="0" lang="ta-IN" sz="1400" spc="-1" strike="noStrike">
                <a:solidFill>
                  <a:srgbClr val="000000"/>
                </a:solidFill>
                <a:latin typeface="Calibri"/>
                <a:cs typeface="Latha"/>
              </a:rPr>
              <a:t>ஆசிரியரிடம் புகார் அளிக்க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பாரியிடம்  கூறுகிறார்கள்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400" spc="-1" strike="noStrike">
                <a:solidFill>
                  <a:srgbClr val="000000"/>
                </a:solidFill>
                <a:latin typeface="Calibri"/>
                <a:cs typeface="Latha"/>
              </a:rPr>
              <a:t>ஆசிரியர் அறைக்குத் தானும் வருவதாக பிரபாகரன் கூற தயக்கத்துடன் இருந்த பாரி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ஆசிரியரிடம் புகார் அளிக்க </a:t>
            </a:r>
            <a:r>
              <a:rPr b="0" lang="ta-IN" sz="1400" spc="-1" strike="noStrike">
                <a:solidFill>
                  <a:srgbClr val="000000"/>
                </a:solidFill>
                <a:latin typeface="Calibri"/>
                <a:cs typeface="Latha"/>
              </a:rPr>
              <a:t>ஒப்புக் கொள்கிறா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ன்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B624-06D4-4B9E-B866-C88970C751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3200" spc="-1" strike="noStrike">
                <a:solidFill>
                  <a:srgbClr val="ffffff"/>
                </a:solidFill>
                <a:latin typeface="Calibri"/>
                <a:cs typeface="Latha"/>
              </a:rPr>
              <a:t>கருத்துகளைத் தொகு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த்தல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0880" y="761760"/>
            <a:ext cx="8229600" cy="56386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284040" indent="-284040" algn="just">
              <a:lnSpc>
                <a:spcPct val="17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உடல் வளர்ச்சியின்போது  ஏற்படும் </a:t>
            </a:r>
            <a:r>
              <a:rPr b="0" lang="ta-IN" sz="1600" spc="-1" strike="noStrike">
                <a:solidFill>
                  <a:srgbClr val="000000"/>
                </a:solidFill>
                <a:latin typeface="Calibri"/>
                <a:cs typeface="Latha"/>
              </a:rPr>
              <a:t>மாற்றங்க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ள் </a:t>
            </a:r>
            <a:r>
              <a:rPr b="0" lang="ta-IN" sz="1600" spc="-1" strike="noStrike">
                <a:solidFill>
                  <a:srgbClr val="000000"/>
                </a:solidFill>
                <a:latin typeface="Calibri"/>
                <a:cs typeface="Latha"/>
              </a:rPr>
              <a:t>இயற்கையானவை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600" spc="-1" strike="noStrike">
                <a:solidFill>
                  <a:srgbClr val="000000"/>
                </a:solidFill>
                <a:latin typeface="Calibri"/>
                <a:cs typeface="Latha"/>
              </a:rPr>
              <a:t>இயல்பானவை மற்றும் ஆரோக்கியமானவை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ஆகும்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040" indent="-284040" algn="just">
              <a:lnSpc>
                <a:spcPct val="17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600" spc="-1" strike="noStrike">
                <a:solidFill>
                  <a:srgbClr val="000000"/>
                </a:solidFill>
                <a:latin typeface="Calibri"/>
                <a:cs typeface="Latha"/>
              </a:rPr>
              <a:t>அனைத்து மாற்றங்களும்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ஒரே </a:t>
            </a:r>
            <a:r>
              <a:rPr b="0" lang="ta-IN" sz="1600" spc="-1" strike="noStrike">
                <a:solidFill>
                  <a:srgbClr val="000000"/>
                </a:solidFill>
                <a:latin typeface="Calibri"/>
                <a:cs typeface="Latha"/>
              </a:rPr>
              <a:t>கால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கட்ட</a:t>
            </a:r>
            <a:r>
              <a:rPr b="0" lang="ta-IN" sz="1600" spc="-1" strike="noStrike">
                <a:solidFill>
                  <a:srgbClr val="000000"/>
                </a:solidFill>
                <a:latin typeface="Calibri"/>
                <a:cs typeface="Latha"/>
              </a:rPr>
              <a:t>த்தில் நிகழ்வதில்லை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040" indent="-284040" algn="just">
              <a:lnSpc>
                <a:spcPct val="17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600" spc="-1" strike="noStrike">
                <a:solidFill>
                  <a:srgbClr val="000000"/>
                </a:solidFill>
                <a:latin typeface="Calibri"/>
                <a:cs typeface="Latha"/>
              </a:rPr>
              <a:t>சில சமயங்களில்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ta-IN" sz="1600" spc="-1" strike="noStrike">
                <a:solidFill>
                  <a:srgbClr val="000000"/>
                </a:solidFill>
                <a:latin typeface="Calibri"/>
                <a:cs typeface="Latha"/>
              </a:rPr>
              <a:t>மாற்றங்கள்  நம் வாழ்க்கை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யில் </a:t>
            </a:r>
            <a:r>
              <a:rPr b="0" lang="ta-IN" sz="1600" spc="-1" strike="noStrike">
                <a:solidFill>
                  <a:srgbClr val="000000"/>
                </a:solidFill>
                <a:latin typeface="Calibri"/>
                <a:cs typeface="Latha"/>
              </a:rPr>
              <a:t>ஆதிக்கம் செலுத்துவதையும்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600" spc="-1" strike="noStrike">
                <a:solidFill>
                  <a:srgbClr val="000000"/>
                </a:solidFill>
                <a:latin typeface="Calibri"/>
                <a:cs typeface="Latha"/>
              </a:rPr>
              <a:t>மற்ற சமயங்களில் மாற்றங்களை  நாம் கட்டுப்படுத்தவும்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செய்கிறோம்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040" indent="-284040" algn="just">
              <a:lnSpc>
                <a:spcPct val="17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600" spc="-1" strike="noStrike">
                <a:solidFill>
                  <a:srgbClr val="000000"/>
                </a:solidFill>
                <a:latin typeface="Calibri"/>
                <a:cs typeface="Latha"/>
              </a:rPr>
              <a:t>சில நேரங்களில்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600" spc="-1" strike="noStrike">
                <a:solidFill>
                  <a:srgbClr val="000000"/>
                </a:solidFill>
                <a:latin typeface="Calibri"/>
                <a:cs typeface="Latha"/>
              </a:rPr>
              <a:t>குழந்தைகள் த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ம்முடைய  தோற்றம்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தம் </a:t>
            </a:r>
            <a:r>
              <a:rPr b="0" lang="ta-IN" sz="1600" spc="-1" strike="noStrike">
                <a:solidFill>
                  <a:srgbClr val="000000"/>
                </a:solidFill>
                <a:latin typeface="Calibri"/>
                <a:cs typeface="Latha"/>
              </a:rPr>
              <a:t>நண்பர்களிடமிருந்து வேறுபடுவதால் ஏற்படும் மன அழுத்தத்தை உணர்கிறார்கள்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040" indent="-284040" algn="just">
              <a:lnSpc>
                <a:spcPct val="17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நம்முடைய உடல் </a:t>
            </a:r>
            <a:r>
              <a:rPr b="0" lang="ta-IN" sz="1600" spc="-1" strike="noStrike">
                <a:solidFill>
                  <a:srgbClr val="000000"/>
                </a:solidFill>
                <a:latin typeface="Calibri"/>
                <a:cs typeface="Latha"/>
              </a:rPr>
              <a:t>வளர்ச்சி குறித்த தவறான எண்ணங்கள் மற்றும் தீங்கு விளைவிக்கும் செயல்க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ள் </a:t>
            </a:r>
            <a:r>
              <a:rPr b="0" lang="ta-IN" sz="1600" spc="-1" strike="noStrike">
                <a:solidFill>
                  <a:srgbClr val="000000"/>
                </a:solidFill>
                <a:latin typeface="Calibri"/>
                <a:cs typeface="Latha"/>
              </a:rPr>
              <a:t>காணப்படுகின்றன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600" spc="-1" strike="noStrike">
                <a:solidFill>
                  <a:srgbClr val="000000"/>
                </a:solidFill>
                <a:latin typeface="Calibri"/>
                <a:cs typeface="Latha"/>
              </a:rPr>
              <a:t>எனவே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600" spc="-1" strike="noStrike">
                <a:solidFill>
                  <a:srgbClr val="000000"/>
                </a:solidFill>
                <a:latin typeface="Calibri"/>
                <a:cs typeface="Latha"/>
              </a:rPr>
              <a:t>இது குறித்து விவாதிக்கவேண்டும்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D23F-D512-4311-BAE3-8413CE3EF3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"/>
          <p:cNvSpPr/>
          <p:nvPr/>
        </p:nvSpPr>
        <p:spPr>
          <a:xfrm>
            <a:off x="152280" y="695880"/>
            <a:ext cx="8763120" cy="58546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90520" indent="-290520" algn="just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அனைத்துக் குழந்தைகளும் ஒரே மாதிரியான வளர்ச்சி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உடல் ரீதியாகவு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மனரீதியாகவு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இல்லாததால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அவர்களுக்கிடையே உடல் வளர்ச்சி தொடர்பான மூடநம்பிக்கைகளு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கருத்துகளைத் தவறாகப் புரிந்துகொள்ளும் தன்மையையும் காணலா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முதிர்பருவத்தினரிடமிருந்து குமரப்பருவத்தினர் அதிகமாகக் கற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கும் வகையில்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ஆரோக்கியத்தில் முன்மாதிரியாகவு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திகழ்தல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ஒப்பனை மற்றும் அழகு நிலையங்களின் விளம்பரங்கள் குழந்தைகளுக்கிடையே தவறான எண்ணத்தையும் உடல் தோற்றத்திற்கு அதீத முக்கியத்துவம் தரச்செய்வதையும் காண முடிகிறத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மாணவர்கள்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தங்களையோ மற்றவர்களையோ குறைவாக மதிப்பி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டாமல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தம்முடைய எண்ணங்களையும் உணர்வுகளையும் தெளிவாகவு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நேர்மையாகவு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கண்ணியமாகவும் வெளிப்படுத்த கற்றுக்கொள்ள வேண்டு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itle 1"/>
          <p:cNvSpPr/>
          <p:nvPr/>
        </p:nvSpPr>
        <p:spPr>
          <a:xfrm>
            <a:off x="457200" y="152280"/>
            <a:ext cx="8229600" cy="6858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3200" spc="-1" strike="noStrike">
                <a:solidFill>
                  <a:srgbClr val="ffffff"/>
                </a:solidFill>
                <a:latin typeface="Calibri"/>
                <a:cs typeface="Latha"/>
              </a:rPr>
              <a:t>கருத்துகளைத் தொகு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த்தல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33FF-D967-40D1-8A27-F0D6588151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33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3200" spc="-1" strike="noStrike">
                <a:solidFill>
                  <a:srgbClr val="ffffff"/>
                </a:solidFill>
                <a:latin typeface="Calibri"/>
                <a:cs typeface="Latha"/>
              </a:rPr>
              <a:t>கருத்துகளைத் தொகு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த்தல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28600" y="762120"/>
            <a:ext cx="8610480" cy="57909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290520" indent="-29052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சக மாணவர்களின் உறவு முறையானத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நேர்மறை மற்றும் எதிர்மறை பரிணாமங்களைக் கொண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டதாக அமையலாம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நேர்மறை நட்பினைப் பராமரிக்க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தன்னம்பிக்கை மற்றும் தன்முனைப்பு அவசியமாகிறத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குமரப்பருவத்தினர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அவர்களின்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பெற்றோர்கள் மற்றும் ஆசிரியர்களுடன் அதிக நேரம் உரையாடுவதன் மூலம் ஒருவருக்கொருவர் புரிந்து கொள்ளவும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ஒருவர் மற்றவரின் மீதுள்ள அக்கறையினைப் பாராட்டவும் செய்ய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உதவும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பெரும்பாலான சூழல்களில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பிற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ருடைய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உணர்வுகளைப்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போலித்தனமென நினைக்காமல்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ஏற்றுக்கொள்ள வேண்டும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10FE-A822-4D53-9B6A-360FAE086A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Title 1"/>
          <p:cNvGrpSpPr/>
          <p:nvPr/>
        </p:nvGrpSpPr>
        <p:grpSpPr>
          <a:xfrm>
            <a:off x="317520" y="571680"/>
            <a:ext cx="8648640" cy="6083280"/>
            <a:chOff x="317520" y="571680"/>
            <a:chExt cx="8648640" cy="6083280"/>
          </a:xfrm>
        </p:grpSpPr>
        <p:pic>
          <p:nvPicPr>
            <p:cNvPr id="165" name="Title 1" descr=""/>
            <p:cNvPicPr/>
            <p:nvPr/>
          </p:nvPicPr>
          <p:blipFill>
            <a:blip r:embed="rId1"/>
            <a:stretch/>
          </p:blipFill>
          <p:spPr>
            <a:xfrm>
              <a:off x="317520" y="571680"/>
              <a:ext cx="8648640" cy="608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2"/>
            <p:cNvSpPr/>
            <p:nvPr/>
          </p:nvSpPr>
          <p:spPr>
            <a:xfrm>
              <a:off x="380880" y="609480"/>
              <a:ext cx="8534520" cy="56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a-IN" sz="6600" spc="-1" strike="noStrike">
                  <a:solidFill>
                    <a:srgbClr val="ffffff"/>
                  </a:solidFill>
                  <a:latin typeface="Arial"/>
                </a:rPr>
                <a:t>உட</a:t>
              </a:r>
              <a:r>
                <a:rPr b="1" lang="en-US" sz="6600" spc="-1" strike="noStrike">
                  <a:solidFill>
                    <a:srgbClr val="ffffff"/>
                  </a:solidFill>
                  <a:latin typeface="Arial"/>
                </a:rPr>
                <a:t>ல்</a:t>
              </a:r>
              <a:r>
                <a:rPr b="1" lang="ta-IN" sz="6600" spc="-1" strike="noStrike">
                  <a:solidFill>
                    <a:srgbClr val="ffffff"/>
                  </a:solidFill>
                  <a:latin typeface="Arial"/>
                </a:rPr>
                <a:t> தகுதி</a:t>
              </a:r>
              <a:r>
                <a:rPr b="1" lang="en-US" sz="6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1F29-6AD5-4F4A-BF0F-E0C0A1C3B8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4000" spc="-1" strike="noStrike">
                <a:solidFill>
                  <a:srgbClr val="ffffff"/>
                </a:solidFill>
                <a:latin typeface="Calibri"/>
                <a:cs typeface="Latha"/>
              </a:rPr>
              <a:t>உட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ல்</a:t>
            </a:r>
            <a:r>
              <a:rPr b="1" lang="ta-IN" sz="4000" spc="-1" strike="noStrike">
                <a:solidFill>
                  <a:srgbClr val="ffffff"/>
                </a:solidFill>
                <a:latin typeface="Calibri"/>
                <a:ea typeface="Latha"/>
              </a:rPr>
              <a:t> தகுதி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294920"/>
            <a:ext cx="8229600" cy="5334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290520" indent="-290520" algn="just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உடலியல் முயற்சிகளின் மூலம் தன்னைச் சூழலுக்கேற்பத் தகவமைத்துக் கொள்ளும் பொதுவான திறனைப் பெற்றிருப்பதே </a:t>
            </a:r>
            <a:r>
              <a:rPr b="1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உடல் தகுதி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ea typeface="Latha"/>
              </a:rPr>
              <a:t> எ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ன்கிறோம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 algn="just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ஒருவர் ஆரோக்கியமாக இருக்க வேண்டுமாயின்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மேற்கொள்ளவேண்டிய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ea typeface="Latha"/>
              </a:rPr>
              <a:t> உடலியல் செயல்பாடுக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ள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 algn="just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விளையாட்டுகளில் ஈடுபடுவத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 algn="just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யோகா பயிற்சி செய்வத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 algn="just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ஆராக்கியமான உணவ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 algn="just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சுகாதாரமான பழக்க வழக்கங்க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ள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9BC7-24C1-40B8-8879-51F283B785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4000" spc="-1" strike="noStrike">
                <a:solidFill>
                  <a:srgbClr val="ffffff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560" y="1219320"/>
            <a:ext cx="8458200" cy="53337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சுகாதாரம்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ea typeface="Latha"/>
              </a:rPr>
              <a:t> என்பது நோயின்றி இருத்தல்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என்பது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மட்டும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ல்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அது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உடலியல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சமூகவியல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மனவெழுச்சி மற்றும் ஆன்மீக நல்வாழ்வு ஆகியவற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றையும்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உள்ளடக்கியத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உடல் நலவாழ்வு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என்பது நமது முழுமையான நலத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தைச்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சார்ந்தத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இ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து நோய்களில் இருந்தும் காயங்களிலிருந்தும் விடுபட்ட நிலையைக் குறிப்பதாகு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உடல் வளர்ச்சி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உடல் தகுதி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ஆரோக்கியமான உணவை உண்ணும் பழக்கம் ஆகியவற்றின் மீதான விழிப்புணர்வு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மற்றும்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உடல்நலத் தேவ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யின் அவசியத்தைப்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புரிந்துகொள்ள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வது உடல் நலவாழ்வாகும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சமூக நலவாழ்வ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என்பது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பிறருடன்  உரையாடும் திறன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குழுவாகப் பணியாற்றும்  திறன் மற்றும் தன் உறவுமுறைகளோடு இணக்கமாக வாழ உதவும் திறன் ஆகியவற்றை  உள்ளடக்கியத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5B45-4F56-4534-9CF1-4E09FADA72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3600" spc="-1" strike="noStrike">
                <a:solidFill>
                  <a:srgbClr val="ffffff"/>
                </a:solidFill>
                <a:latin typeface="Calibri"/>
                <a:cs typeface="Latha"/>
              </a:rPr>
              <a:t>உடற்தகுதியின் உட்கூறுகள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52280" y="1143000"/>
            <a:ext cx="8653680" cy="5562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1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900" spc="-1" strike="noStrike">
                <a:solidFill>
                  <a:srgbClr val="000000"/>
                </a:solidFill>
                <a:latin typeface="Calibri"/>
                <a:cs typeface="Latha"/>
              </a:rPr>
              <a:t>பலம்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ta-IN" sz="1900" spc="-1" strike="noStrike">
                <a:solidFill>
                  <a:srgbClr val="000000"/>
                </a:solidFill>
                <a:latin typeface="Calibri"/>
                <a:cs typeface="Latha"/>
              </a:rPr>
              <a:t>ஒரு செயலை மேற்கொள்ள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a-IN" sz="1900" spc="-1" strike="noStrike">
                <a:solidFill>
                  <a:srgbClr val="000000"/>
                </a:solidFill>
                <a:latin typeface="Calibri"/>
                <a:cs typeface="Latha"/>
              </a:rPr>
              <a:t>அல்லது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a-IN" sz="1900" spc="-1" strike="noStrike">
                <a:solidFill>
                  <a:srgbClr val="000000"/>
                </a:solidFill>
                <a:latin typeface="Calibri"/>
                <a:cs typeface="Latha"/>
              </a:rPr>
              <a:t>தடைக்கு எதிராக செயல்பட தசைக்கு உள்ள திறனே </a:t>
            </a:r>
            <a:r>
              <a:rPr b="1" lang="ta-IN" sz="1900" spc="-1" strike="noStrike">
                <a:solidFill>
                  <a:srgbClr val="000000"/>
                </a:solidFill>
                <a:latin typeface="Calibri"/>
                <a:cs typeface="Latha"/>
              </a:rPr>
              <a:t>பலம்</a:t>
            </a:r>
            <a:r>
              <a:rPr b="0" lang="ta-IN" sz="1900" spc="-1" strike="noStrike">
                <a:solidFill>
                  <a:srgbClr val="000000"/>
                </a:solidFill>
                <a:latin typeface="Calibri"/>
                <a:ea typeface="Latha"/>
              </a:rPr>
              <a:t> எனப்படுகிறது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900" spc="-1" strike="noStrike">
                <a:solidFill>
                  <a:srgbClr val="000000"/>
                </a:solidFill>
                <a:latin typeface="Calibri"/>
                <a:cs typeface="Latha"/>
              </a:rPr>
              <a:t>வேகம்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ta-IN" sz="1900" spc="-1" strike="noStrike">
                <a:solidFill>
                  <a:srgbClr val="000000"/>
                </a:solidFill>
                <a:latin typeface="Calibri"/>
                <a:cs typeface="Latha"/>
              </a:rPr>
              <a:t>குறிப்பிட்ட நேரத்தில் இயக்கத்தில் ஏற்படும் மாறுபாட்டால் வேகம் அளவிடப்படுகிறது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900" spc="-1" strike="noStrike">
                <a:solidFill>
                  <a:srgbClr val="000000"/>
                </a:solidFill>
                <a:latin typeface="Calibri"/>
                <a:cs typeface="Latha"/>
              </a:rPr>
              <a:t>எடுத்துக்காட்டாக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900" spc="-1" strike="noStrike">
                <a:solidFill>
                  <a:srgbClr val="000000"/>
                </a:solidFill>
                <a:latin typeface="Calibri"/>
                <a:cs typeface="Latha"/>
              </a:rPr>
              <a:t>குறிப்பிட்ட தொலைவைக் குறைந்த அளவு நேரத்தில் கடக்கும் மாணவனின் திறன்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900" spc="-1" strike="noStrike">
                <a:solidFill>
                  <a:srgbClr val="000000"/>
                </a:solidFill>
                <a:latin typeface="Calibri"/>
                <a:cs typeface="Latha"/>
              </a:rPr>
              <a:t>சமதளத்தில்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20 </a:t>
            </a:r>
            <a:r>
              <a:rPr b="0" lang="ta-IN" sz="1900" spc="-1" strike="noStrike">
                <a:solidFill>
                  <a:srgbClr val="000000"/>
                </a:solidFill>
                <a:latin typeface="Calibri"/>
                <a:cs typeface="Latha"/>
              </a:rPr>
              <a:t>முதல்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50 </a:t>
            </a:r>
            <a:r>
              <a:rPr b="0" lang="ta-IN" sz="1900" spc="-1" strike="noStrike">
                <a:solidFill>
                  <a:srgbClr val="000000"/>
                </a:solidFill>
                <a:latin typeface="Calibri"/>
                <a:cs typeface="Latha"/>
              </a:rPr>
              <a:t>மீட்டர் வரையிலான தொலைவைக்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a-IN" sz="1900" spc="-1" strike="noStrike">
                <a:solidFill>
                  <a:srgbClr val="000000"/>
                </a:solidFill>
                <a:latin typeface="Calibri"/>
                <a:cs typeface="Latha"/>
              </a:rPr>
              <a:t>கடக்கச் செய்தல்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900" spc="-1" strike="noStrike">
                <a:solidFill>
                  <a:srgbClr val="000000"/>
                </a:solidFill>
                <a:latin typeface="Calibri"/>
                <a:cs typeface="Latha"/>
              </a:rPr>
              <a:t>தாங்கும் சக்தி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ta-IN" sz="1900" spc="-1" strike="noStrike">
                <a:solidFill>
                  <a:srgbClr val="000000"/>
                </a:solidFill>
                <a:latin typeface="Calibri"/>
                <a:cs typeface="Latha"/>
              </a:rPr>
              <a:t>களைப்பின் மத்தியிலும் நெடுநேரமாக இயக்கத்தை ஏற்படுத்தும் திறனே தாங்கும் சக்தி எனப்படும்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3832-5E3C-4C62-A397-BE821CF3ED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3600" spc="-1" strike="noStrike">
                <a:solidFill>
                  <a:srgbClr val="ffffff"/>
                </a:solidFill>
                <a:latin typeface="Calibri"/>
                <a:cs typeface="Latha"/>
              </a:rPr>
              <a:t>உடற்தகுதியின் உட்கூறுகள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52280" y="1066680"/>
            <a:ext cx="8653680" cy="5562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நெகிழ்வுத் தன்மை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:  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அதிகபடியான வளையும் தன்மை கொண்ட அசைவை மேற்கொள்ளும் திறனை நெகிழ்வுத் தன்மை என்கிறோ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உட்கார்ந்து தொடுதல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sit and reach test)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என்ற செயல்பாட்டின் மூலம் நெகிழ்வுத் தன்மையை அதிகரிக்கலா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துரிதத்தன்மை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வேகமான இயக்கங்கள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மாற்றங்களை ஏற்படும் திறன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உண்டாக்கும் திறனே துரிதத்தன்மை எனப்படு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குழந்தைகளின் துரிதத்தன்மையைச் சோதிக்க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 x10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மீட்டர் தொலைவு ஓடிச் சென்று திரும்பும் போட்டி நடத்தலா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குழந்தைகளின் துரிதத்தன்மையைச் சோதிக்க மட்டுமின்றி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அதனை மேம்படுத்தவும் இப்போட்டியினைப் பயன்படுத்தலா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43F0-041E-47E1-AF3E-8DA6B3FBD2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8381880" cy="152388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4000" spc="-1" strike="noStrike">
                <a:solidFill>
                  <a:srgbClr val="ffffff"/>
                </a:solidFill>
                <a:latin typeface="Calibri"/>
                <a:cs typeface="Latha"/>
              </a:rPr>
              <a:t>உடற்தகுதி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க்கான செயல்பாடுகள்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7813-3CFE-4D85-A9A8-2DFB9D1415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380880" y="-45360"/>
            <a:ext cx="8534520" cy="69519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வகுப்பறையின் உள்ளே மேற்கொள்ளும் செயல்பாடுகள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0464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cs typeface="Arial"/>
              </a:rPr>
              <a:t>மேஜையின் மேலே ஏறுதல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0464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யோகாசனங்கள்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cs typeface="Arial"/>
              </a:rPr>
              <a:t>செய்தல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0464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cs typeface="Arial"/>
              </a:rPr>
              <a:t>ஆடுதல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0464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cs typeface="Arial"/>
              </a:rPr>
              <a:t>எகிறி குதித்தல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0464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0464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வகுப்பறையின் வெளியே  மேற்கொள்ளும் செயல்பாடுகள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0464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cs typeface="Arial"/>
              </a:rPr>
              <a:t>ஏணியில் ஏறுதல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0464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cs typeface="Arial"/>
              </a:rPr>
              <a:t>நேர் கோட்டில் நடத்தல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0464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cs typeface="Arial"/>
              </a:rPr>
              <a:t>பல்வேறு பொருள்களின் மேல் ஏறி குதித்தல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0464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cs typeface="Arial"/>
              </a:rPr>
              <a:t>தடைகளைத் தாண்டி ஓடுதல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0464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0464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5EFF-5E6C-4FA0-A700-F8D1F566E6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சரியான உடற்</a:t>
            </a:r>
            <a:r>
              <a:rPr b="1" lang="ta-IN" sz="2800" spc="-1" strike="noStrike">
                <a:solidFill>
                  <a:srgbClr val="ffffff"/>
                </a:solidFill>
                <a:latin typeface="Calibri"/>
                <a:cs typeface="Latha"/>
              </a:rPr>
              <a:t>தோரணை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யை வளர்த்தல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28600" y="1066680"/>
            <a:ext cx="8686800" cy="5562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சரியான தோரணையில் அமரும் நிலை அமர்தல்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பாதங்கள் இரண்டும் சரியான இடைவெளியில் தரையில் படிந்திருத்தல் வேண்டும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நாற்காலியில் அமரும்போது முதுகுப் பகுதி நேராக படத்தில் உள்ளதுபோல் இருக்கவேண்டும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4" descr="Screen Clipping"/>
          <p:cNvPicPr/>
          <p:nvPr/>
        </p:nvPicPr>
        <p:blipFill>
          <a:blip r:embed="rId1">
            <a:grayscl/>
          </a:blip>
          <a:stretch/>
        </p:blipFill>
        <p:spPr>
          <a:xfrm>
            <a:off x="762120" y="3733920"/>
            <a:ext cx="7924680" cy="2743200"/>
          </a:xfrm>
          <a:prstGeom prst="rect">
            <a:avLst/>
          </a:prstGeom>
          <a:ln w="0">
            <a:noFill/>
          </a:ln>
        </p:spPr>
      </p:pic>
      <p:sp>
        <p:nvSpPr>
          <p:cNvPr id="19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6F74-773F-4445-9AEF-885609B136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Image result for images of good walking posture"/>
          <p:cNvPicPr/>
          <p:nvPr/>
        </p:nvPicPr>
        <p:blipFill>
          <a:blip r:embed="rId1"/>
          <a:stretch/>
        </p:blipFill>
        <p:spPr>
          <a:xfrm>
            <a:off x="457200" y="1155600"/>
            <a:ext cx="8305920" cy="5200920"/>
          </a:xfrm>
          <a:prstGeom prst="rect">
            <a:avLst/>
          </a:prstGeom>
          <a:ln w="0">
            <a:noFill/>
          </a:ln>
        </p:spPr>
      </p:pic>
      <p:sp>
        <p:nvSpPr>
          <p:cNvPr id="193" name="TextBox 3"/>
          <p:cNvSpPr/>
          <p:nvPr/>
        </p:nvSpPr>
        <p:spPr>
          <a:xfrm>
            <a:off x="2438280" y="177840"/>
            <a:ext cx="4800600" cy="5814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நிற்றல் நிலை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3780-1AA7-4F0A-B287-A0EF06253E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0" y="304920"/>
            <a:ext cx="5010120" cy="1780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"/>
          <p:cNvPicPr/>
          <p:nvPr/>
        </p:nvPicPr>
        <p:blipFill>
          <a:blip r:embed="rId2"/>
          <a:stretch/>
        </p:blipFill>
        <p:spPr>
          <a:xfrm>
            <a:off x="228600" y="4800600"/>
            <a:ext cx="5000760" cy="17622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"/>
          <p:cNvPicPr/>
          <p:nvPr/>
        </p:nvPicPr>
        <p:blipFill>
          <a:blip r:embed="rId3"/>
          <a:stretch/>
        </p:blipFill>
        <p:spPr>
          <a:xfrm>
            <a:off x="2514600" y="2362320"/>
            <a:ext cx="6419880" cy="2276280"/>
          </a:xfrm>
          <a:prstGeom prst="rect">
            <a:avLst/>
          </a:prstGeom>
          <a:ln w="0">
            <a:noFill/>
          </a:ln>
        </p:spPr>
      </p:pic>
      <p:sp>
        <p:nvSpPr>
          <p:cNvPr id="199" name="TextBox 4"/>
          <p:cNvSpPr/>
          <p:nvPr/>
        </p:nvSpPr>
        <p:spPr>
          <a:xfrm>
            <a:off x="4952880" y="53352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விளையாட்டுப் போட்டிகள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4AB9-AF1D-499D-A3BE-F32BE2FF7D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8229600" cy="2438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3200" spc="-1" strike="noStrike">
                <a:solidFill>
                  <a:srgbClr val="ffffff"/>
                </a:solidFill>
                <a:latin typeface="Calibri"/>
                <a:cs typeface="Latha"/>
              </a:rPr>
              <a:t>முழுமையான ஆரோக்கியத்திற்கு யோகாசனம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ADEF-F688-45F7-9C8F-DA6D07070C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7920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பொதுவான யோகா பயிற்சிகள்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1294920"/>
            <a:ext cx="8458200" cy="52578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யோகாசனம் யாம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நியாம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ஆசன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பிரணாயாம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பிரத்திகார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சுத்தி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முத்திர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பாந்த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தாரனம் மற்றும் தியானம் போன்ற பயிற்சிகளை உள்ளடக்கியத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யாம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கொள்கைகள்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அகிம்சை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himsa), Satya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உண்ம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; Asteya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உண்ணாநோன்ப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; Brahmcharya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திருடாம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மற்றும்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arigraha (non-collectiveness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நியாம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கொள்கைகள்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Shaucha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தூய்ம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cleanliness); Santosha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தன்னிறைவ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; Tapas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எளிம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; Swadhyaya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நல்ல இலக்கியக்களைப் ப்டித்தல் மற்றும் தான் என்பதை உணர்தல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மற்றும்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hwarpranidhana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கடவுளை அடைதல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ஞான அறிவ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riyas -Neti, Dhauti, Basti, Trataka, Nauli and Kapalabhat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F610-5573-4414-BBAB-49B9F2EEA0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990720" y="417600"/>
            <a:ext cx="2712960" cy="21081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"/>
          <p:cNvPicPr/>
          <p:nvPr/>
        </p:nvPicPr>
        <p:blipFill>
          <a:blip r:embed="rId2"/>
          <a:stretch/>
        </p:blipFill>
        <p:spPr>
          <a:xfrm>
            <a:off x="4853160" y="228600"/>
            <a:ext cx="3450960" cy="20574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"/>
          <p:cNvPicPr/>
          <p:nvPr/>
        </p:nvPicPr>
        <p:blipFill>
          <a:blip r:embed="rId3"/>
          <a:stretch/>
        </p:blipFill>
        <p:spPr>
          <a:xfrm>
            <a:off x="990720" y="3048120"/>
            <a:ext cx="3301920" cy="18428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" descr=""/>
          <p:cNvPicPr/>
          <p:nvPr/>
        </p:nvPicPr>
        <p:blipFill>
          <a:blip r:embed="rId4"/>
          <a:srcRect l="50332" t="43356" r="29232" b="22087"/>
          <a:stretch/>
        </p:blipFill>
        <p:spPr>
          <a:xfrm>
            <a:off x="2935440" y="4648320"/>
            <a:ext cx="3187440" cy="1801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"/>
          <p:cNvPicPr/>
          <p:nvPr/>
        </p:nvPicPr>
        <p:blipFill>
          <a:blip r:embed="rId5"/>
          <a:stretch/>
        </p:blipFill>
        <p:spPr>
          <a:xfrm>
            <a:off x="6019920" y="2590920"/>
            <a:ext cx="1380960" cy="2923920"/>
          </a:xfrm>
          <a:prstGeom prst="rect">
            <a:avLst/>
          </a:prstGeom>
          <a:ln w="0">
            <a:noFill/>
          </a:ln>
        </p:spPr>
      </p:pic>
      <p:sp>
        <p:nvSpPr>
          <p:cNvPr id="214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6896-5AFD-4395-917D-BC4F132D5E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4000" spc="-1" strike="noStrike">
                <a:solidFill>
                  <a:srgbClr val="ffffff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4560" y="990360"/>
            <a:ext cx="8458200" cy="56386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9000"/>
          </a:bodyPr>
          <a:p>
            <a:pPr marL="339480" indent="-3394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மனவெழுச்சி நலவாழ்வு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ஒருவர் இயல்பாக இருப்பதற்கான மனவெழுச்சியினைக் கட்டுப்படுத்தவும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மேலாண்மை செய்யவும் உதவுகின்ற  திறனைக் கொண்டத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ஒரு நபர் தமது உணர்வுகளைச் சரியாக வெளிப்படுத்துகிறார் எனில் அவர் நல்ல மனவெழுச்சி கொண்டவராக இருக்கிறார் எ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ன்பதை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அறியலாம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மன நலம் மற்றும் நலவாழ்வு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ஒருவர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தமக்குள் உள்ள திறன்களை உணரவும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வாழ்வின் இயல்பான அழுத்தத்தோடு செயல்படவும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ஒரு பணியினை முழுமையாகச் செய்யவும் மற்றும்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தான்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சார்ந்த சமூகத்திற்குச் பங்களிப்பை வழங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கு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ம் நல்வாழ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வைக்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குறிப்பதாகும்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உலக சுகாதார அமைப்ப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WHO)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687D-AE51-42FE-A10A-E64326820D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யோகா பயிற்சிகள்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1320" y="1447920"/>
            <a:ext cx="850428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800" spc="-1" strike="noStrike">
                <a:solidFill>
                  <a:srgbClr val="000000"/>
                </a:solidFill>
                <a:latin typeface="Calibri"/>
                <a:cs typeface="Latha"/>
              </a:rPr>
              <a:t>பிராணயா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மம்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a-IN" sz="2800" spc="-1" strike="noStrike">
                <a:solidFill>
                  <a:srgbClr val="000000"/>
                </a:solidFill>
                <a:latin typeface="Calibri"/>
                <a:cs typeface="Latha"/>
              </a:rPr>
              <a:t>அனுலோமாவிலோம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800" spc="-1" strike="noStrike">
                <a:solidFill>
                  <a:srgbClr val="000000"/>
                </a:solidFill>
                <a:latin typeface="Calibri"/>
                <a:cs typeface="Latha"/>
              </a:rPr>
              <a:t>கிரிய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ta-IN" sz="2800" spc="-1" strike="noStrike">
                <a:solidFill>
                  <a:srgbClr val="000000"/>
                </a:solidFill>
                <a:latin typeface="Calibri"/>
                <a:cs typeface="Latha"/>
              </a:rPr>
              <a:t>கபாலபாதி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2800" spc="-1" strike="noStrike">
                <a:solidFill>
                  <a:srgbClr val="000000"/>
                </a:solidFill>
                <a:latin typeface="Calibri"/>
                <a:cs typeface="Latha"/>
              </a:rPr>
              <a:t>அக்னிசார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3048120" y="1981080"/>
            <a:ext cx="2800080" cy="2819520"/>
          </a:xfrm>
          <a:prstGeom prst="rect">
            <a:avLst/>
          </a:prstGeom>
          <a:ln w="0">
            <a:noFill/>
          </a:ln>
        </p:spPr>
      </p:pic>
      <p:sp>
        <p:nvSpPr>
          <p:cNvPr id="21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9DB4-8E06-4377-A324-E2F11E9146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3200" spc="-1" strike="noStrike">
                <a:solidFill>
                  <a:srgbClr val="ffffff"/>
                </a:solidFill>
                <a:latin typeface="Calibri"/>
                <a:cs typeface="Latha"/>
              </a:rPr>
              <a:t>யோகாசன பயிற்சிகளுக்கான பொது வழிமுறைகள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பெரும்பாலான ஆசனங்கள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பிரணாயாமங்கள் மற்றும் கிரியைகளை வெறும் வயிற்றுடனோ அல்லது மிகக்குறைந்த அளவிலான உணவுடனோ செய்தல் வேண்டும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யோகாசனம் செய்வதற்கு அதிகாலை நேரம் ஏற்றதாகும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இருப்பினும் மதிய உணவு உண்டு மூன்று மணி நேரங்களுக்குப் பிறகு மாலையில் வெறும் வயிற்றில் யோகாசனம் செய்யலாம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யோகாசனப் பயிற்சிகளை அவசரமாகவோ அல்லது மிகவும் சோர்வுடன் இருக்கும்போதோ செய்தல் கூடாத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70258-1177-4D5E-AAC5-61FD5CA438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3200" spc="-1" strike="noStrike">
                <a:solidFill>
                  <a:srgbClr val="ffffff"/>
                </a:solidFill>
                <a:latin typeface="Calibri"/>
                <a:cs typeface="Latha"/>
              </a:rPr>
              <a:t>யோகாசன பயிற்சிகளுக்கான பொது வழிமுறைகள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447920"/>
            <a:ext cx="8229600" cy="54100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500" spc="-1" strike="noStrike">
                <a:solidFill>
                  <a:srgbClr val="000000"/>
                </a:solidFill>
                <a:latin typeface="Calibri"/>
                <a:cs typeface="Latha"/>
              </a:rPr>
              <a:t>நல்ல காற்றோட்டமான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2500" spc="-1" strike="noStrike">
                <a:solidFill>
                  <a:srgbClr val="000000"/>
                </a:solidFill>
                <a:latin typeface="Calibri"/>
                <a:cs typeface="Latha"/>
              </a:rPr>
              <a:t>சுத்தமான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2500" spc="-1" strike="noStrike">
                <a:solidFill>
                  <a:srgbClr val="000000"/>
                </a:solidFill>
                <a:latin typeface="Calibri"/>
                <a:cs typeface="Latha"/>
              </a:rPr>
              <a:t>இடையூறின்றி உள்ள இடங்களை யோகாசன பயிற்சிகள் செய்வதற்குத் தேர்வு செய்யவேண்டும்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500" spc="-1" strike="noStrike">
                <a:solidFill>
                  <a:srgbClr val="000000"/>
                </a:solidFill>
                <a:latin typeface="Calibri"/>
                <a:cs typeface="Latha"/>
              </a:rPr>
              <a:t>பாய் அல்லது விரிப்பு விரித்து அதன்மீது யோகாசனப் பயிற்சிகளை செய்யவேண்டும்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500" spc="-1" strike="noStrike">
                <a:solidFill>
                  <a:srgbClr val="000000"/>
                </a:solidFill>
                <a:latin typeface="Calibri"/>
                <a:cs typeface="Latha"/>
              </a:rPr>
              <a:t>குளித்துவிட்டு யோகாசன பயிற்சிகளை மேற்கொள்வது சிறந்ததாகும்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D9D8-5C77-45E9-9B1E-3A953E633B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itle 1"/>
          <p:cNvSpPr/>
          <p:nvPr/>
        </p:nvSpPr>
        <p:spPr>
          <a:xfrm>
            <a:off x="457200" y="2057400"/>
            <a:ext cx="8229600" cy="220968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4400" spc="-1" strike="noStrike">
                <a:solidFill>
                  <a:srgbClr val="ffffff"/>
                </a:solidFill>
                <a:latin typeface="Calibri"/>
                <a:cs typeface="Latha"/>
              </a:rPr>
              <a:t>ஆரோக்கியமான உணவுப் பழக்கமும் சுகாதாரமும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901D-5625-44FD-9C20-1E0B82300A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3200" spc="-1" strike="noStrike">
                <a:solidFill>
                  <a:srgbClr val="ffffff"/>
                </a:solidFill>
                <a:latin typeface="Calibri"/>
                <a:cs typeface="Latha"/>
              </a:rPr>
              <a:t>ஆரோக்கியமான உணவுப்பழக்கம்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600200"/>
            <a:ext cx="8534160" cy="51055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மெதுவாகவும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சரியாக மென்றும் சாப்பிடுதல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சாப்பிடும்பொழுத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தொலைக்காட்சி பார்ப்பதையும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வாசிப்பதையும் தவிர்த்தல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தேவையான அளவு எல்லாச் சத்துகளும் நிறைந்த சரிவிகித உணவை உண்ணுதல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சரியான இடைவெளியில் சரியான அளவில் உண்ணுதல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உணவைத் தவிர்ப்பது அல்லது அதிக அளவில் உண்ணுவதை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த்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தவிர்த்தல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தேவையான அளவு நீர் பருகுதல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(8-10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டம்ளர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ஒரு நாள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8330-A2D0-42B3-8A5B-BE23445040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3200" spc="-1" strike="noStrike">
                <a:solidFill>
                  <a:srgbClr val="ffffff"/>
                </a:solidFill>
                <a:latin typeface="Calibri"/>
                <a:cs typeface="Latha"/>
              </a:rPr>
              <a:t>ஆரோக்கியமான உணவுப்பழக்கம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6840" y="1600200"/>
            <a:ext cx="8458200" cy="51055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கழிவறையைப் பயன்படுத்திய பின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கைகளைச்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சோப்பு போட்டு கழுவுதல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ஒரு நாளைக்கு இரு வேளை பல் துலக்குதல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தினமும் நீராடுதல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குளித்தல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கால் நகங்களை வெட்டுதல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முகம் கழுவும்போது கண்களையும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கழுவு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தல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காதுகளைச் சுத்தமாக வைத்தல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இர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மும்போது   வாயினைக்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கை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களால்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ம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டிக்கொண்டு இருமுதல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தும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மும்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போது முகத்தையோ அல்லது வாயையோ சுத்தமான துணியால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ம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டிக்கொண்டு தும்மு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தல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F216-B376-4D39-9CC0-6F185AA7C0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4400" spc="-1" strike="noStrike">
                <a:solidFill>
                  <a:srgbClr val="ffffff"/>
                </a:solidFill>
                <a:latin typeface="Calibri"/>
                <a:cs typeface="Latha"/>
              </a:rPr>
              <a:t>மனவெழுச்சி நலம்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380880" y="1600200"/>
          <a:ext cx="8382240" cy="4572000"/>
        </p:xfrm>
        <a:graphic>
          <a:graphicData uri="http://schemas.openxmlformats.org/drawingml/2006/table">
            <a:tbl>
              <a:tblPr/>
              <a:tblGrid>
                <a:gridCol w="1825920"/>
                <a:gridCol w="2441520"/>
                <a:gridCol w="1828800"/>
                <a:gridCol w="2286000"/>
              </a:tblGrid>
              <a:tr h="57636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2800" spc="-1" strike="noStrike">
                          <a:solidFill>
                            <a:srgbClr val="ffffff"/>
                          </a:solidFill>
                          <a:latin typeface="Calibri"/>
                          <a:cs typeface="Latha"/>
                        </a:rPr>
                        <a:t>மனவெழுச்சி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கள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8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மகிழ்ச்ச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8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வெட்கம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8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ஆச்சரியம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8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அச்சம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436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8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கோபம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8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மகிழ்ச்ச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8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வருத்தம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8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திகில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7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8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திருப்த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8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மனவருத்தத்தை ஏற்படுத்துதல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8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குழப்பம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8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நம்பிக்க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517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8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அன்ப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8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பொறாம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8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விரக்த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8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குற்ற உணர்வ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82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8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உற்சாகம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8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கவல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8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எரிச்சல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8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சிறு பிள்ளைத்தனம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711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8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ஏமாற்றம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8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பெரும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8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பதற்றம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8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சங்கடப்படுதல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2F22-B26C-4099-B4DD-78D32EA225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வலியுறுத்தப்படவேண்டிய முக்கிய கருத்துகள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600200"/>
            <a:ext cx="8610480" cy="49528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200" spc="-1" strike="noStrike">
                <a:solidFill>
                  <a:srgbClr val="000000"/>
                </a:solidFill>
                <a:latin typeface="Calibri"/>
                <a:cs typeface="Latha"/>
              </a:rPr>
              <a:t>கோபம்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  </a:t>
            </a:r>
            <a:r>
              <a:rPr b="0" lang="ta-IN" sz="2200" spc="-1" strike="noStrike">
                <a:solidFill>
                  <a:srgbClr val="000000"/>
                </a:solidFill>
                <a:latin typeface="Calibri"/>
                <a:cs typeface="Latha"/>
              </a:rPr>
              <a:t>உடல் சூடாவதை உணரலாம்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2200" spc="-1" strike="noStrike">
                <a:solidFill>
                  <a:srgbClr val="000000"/>
                </a:solidFill>
                <a:latin typeface="Calibri"/>
                <a:cs typeface="Latha"/>
              </a:rPr>
              <a:t>வியர்வை அல்லது தலைவலி வரும்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200" spc="-1" strike="noStrike">
                <a:solidFill>
                  <a:srgbClr val="000000"/>
                </a:solidFill>
                <a:latin typeface="Calibri"/>
                <a:cs typeface="Latha"/>
              </a:rPr>
              <a:t>மகிழ்தல்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:   </a:t>
            </a:r>
            <a:r>
              <a:rPr b="0" lang="ta-IN" sz="2200" spc="-1" strike="noStrike">
                <a:solidFill>
                  <a:srgbClr val="000000"/>
                </a:solidFill>
                <a:latin typeface="Calibri"/>
                <a:cs typeface="Latha"/>
              </a:rPr>
              <a:t>புத்துணர்வுடன் உடம்பு இலகுவாக இருப்பதை உணரலாம்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200" spc="-1" strike="noStrike">
                <a:solidFill>
                  <a:srgbClr val="000000"/>
                </a:solidFill>
                <a:latin typeface="Calibri"/>
                <a:cs typeface="Latha"/>
              </a:rPr>
              <a:t>உற்சாகம்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  </a:t>
            </a:r>
            <a:r>
              <a:rPr b="0" lang="ta-IN" sz="2200" spc="-1" strike="noStrike">
                <a:solidFill>
                  <a:srgbClr val="000000"/>
                </a:solidFill>
                <a:latin typeface="Calibri"/>
                <a:cs typeface="Latha"/>
              </a:rPr>
              <a:t>இதயம் வேகமாகத் துடிப்பதை உணரலாம்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200" spc="-1" strike="noStrike">
                <a:solidFill>
                  <a:srgbClr val="000000"/>
                </a:solidFill>
                <a:latin typeface="Calibri"/>
                <a:cs typeface="Latha"/>
              </a:rPr>
              <a:t>பயம்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:   </a:t>
            </a:r>
            <a:r>
              <a:rPr b="0" lang="ta-IN" sz="2200" spc="-1" strike="noStrike">
                <a:solidFill>
                  <a:srgbClr val="000000"/>
                </a:solidFill>
                <a:latin typeface="Calibri"/>
                <a:cs typeface="Latha"/>
              </a:rPr>
              <a:t>வியர்க்க ஆரம்பிக்கும்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2200" spc="-1" strike="noStrike">
                <a:solidFill>
                  <a:srgbClr val="000000"/>
                </a:solidFill>
                <a:latin typeface="Calibri"/>
                <a:cs typeface="Latha"/>
              </a:rPr>
              <a:t>தோலில் மீதுள்ள மயிர் கூச்சத்தை உணரலாம்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வருத்தம்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பற்றற்ற தன்மையை உணரலாம்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BB63-7DDF-49D2-B18C-BBA095D703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86800" cy="11430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800" spc="-1" strike="noStrike">
                <a:solidFill>
                  <a:srgbClr val="ffffff"/>
                </a:solidFill>
                <a:latin typeface="Calibri"/>
                <a:cs typeface="Latha"/>
              </a:rPr>
              <a:t>என் உள்ளார்ந்த வலிமை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ta-IN" sz="2800" spc="-1" strike="noStrike">
                <a:solidFill>
                  <a:srgbClr val="ffffff"/>
                </a:solidFill>
                <a:latin typeface="Calibri"/>
                <a:cs typeface="Latha"/>
              </a:rPr>
              <a:t>நான்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,  ‘</a:t>
            </a:r>
            <a:r>
              <a:rPr b="1" lang="ta-IN" sz="2800" spc="-1" strike="noStrike">
                <a:solidFill>
                  <a:srgbClr val="ffffff"/>
                </a:solidFill>
                <a:latin typeface="Calibri"/>
                <a:cs typeface="Latha"/>
              </a:rPr>
              <a:t>என்னிடம் உள்ள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வை’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, ‘</a:t>
            </a:r>
            <a:r>
              <a:rPr b="1" lang="ta-IN" sz="2800" spc="-1" strike="noStrike">
                <a:solidFill>
                  <a:srgbClr val="ffffff"/>
                </a:solidFill>
                <a:latin typeface="Calibri"/>
                <a:cs typeface="Latha"/>
              </a:rPr>
              <a:t>என்னால் முடியும்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Content Placeholder 2"/>
          <p:cNvSpPr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C:\Users\hp1\Desktop\11.png"/>
          <p:cNvPicPr/>
          <p:nvPr/>
        </p:nvPicPr>
        <p:blipFill>
          <a:blip r:embed="rId2"/>
          <a:stretch/>
        </p:blipFill>
        <p:spPr>
          <a:xfrm>
            <a:off x="304920" y="1447920"/>
            <a:ext cx="8610480" cy="5181480"/>
          </a:xfrm>
          <a:prstGeom prst="rect">
            <a:avLst/>
          </a:prstGeom>
          <a:ln w="0">
            <a:noFill/>
          </a:ln>
        </p:spPr>
      </p:pic>
      <p:sp>
        <p:nvSpPr>
          <p:cNvPr id="25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B9A4-9564-40BF-BBF8-8F52E25028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itle 1"/>
          <p:cNvSpPr/>
          <p:nvPr/>
        </p:nvSpPr>
        <p:spPr>
          <a:xfrm>
            <a:off x="304920" y="0"/>
            <a:ext cx="8534160" cy="106668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வெவ்வேறு சூழல்களில்  ஒருவர் எவ்வாறு நடந்துகொள்வார் என்பதை பங்கேற்று  </a:t>
            </a:r>
            <a:r>
              <a:rPr b="1" lang="ta-IN" sz="2400" spc="-1" strike="noStrike">
                <a:solidFill>
                  <a:srgbClr val="ffffff"/>
                </a:solidFill>
                <a:latin typeface="Calibri"/>
                <a:cs typeface="Latha"/>
              </a:rPr>
              <a:t>நடித்தல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Content Placeholder 2"/>
          <p:cNvSpPr/>
          <p:nvPr/>
        </p:nvSpPr>
        <p:spPr>
          <a:xfrm>
            <a:off x="304920" y="1066680"/>
            <a:ext cx="8534160" cy="56390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a-IN" sz="2100" spc="-1" strike="noStrike">
                <a:solidFill>
                  <a:srgbClr val="000000"/>
                </a:solidFill>
                <a:latin typeface="Calibri"/>
                <a:cs typeface="Latha"/>
              </a:rPr>
              <a:t>கண்டிப்பான வகுப்பு ஆசிரியர் ஒருவரிடம்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ta-IN" sz="2100" spc="-1" strike="noStrike">
                <a:solidFill>
                  <a:srgbClr val="000000"/>
                </a:solidFill>
                <a:latin typeface="Calibri"/>
                <a:cs typeface="Latha"/>
              </a:rPr>
              <a:t>உன்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a-IN" sz="2100" spc="-1" strike="noStrike">
                <a:solidFill>
                  <a:srgbClr val="000000"/>
                </a:solidFill>
                <a:latin typeface="Calibri"/>
                <a:cs typeface="Latha"/>
              </a:rPr>
              <a:t>சகமாணவி தவறான புகாரை அளிக்கிறாள்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a-IN" sz="2100" spc="-1" strike="noStrike">
                <a:solidFill>
                  <a:srgbClr val="000000"/>
                </a:solidFill>
                <a:latin typeface="Calibri"/>
                <a:cs typeface="Latha"/>
              </a:rPr>
              <a:t>வீட்டில் ஒரு பிரச்சனை நிகழும்போது உன் நெருங்கிய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a-IN" sz="2100" spc="-1" strike="noStrike">
                <a:solidFill>
                  <a:srgbClr val="000000"/>
                </a:solidFill>
                <a:latin typeface="Calibri"/>
                <a:cs typeface="Latha"/>
              </a:rPr>
              <a:t>நண்பர் உன்னை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ப் </a:t>
            </a:r>
            <a:r>
              <a:rPr b="0" lang="ta-IN" sz="2100" spc="-1" strike="noStrike">
                <a:solidFill>
                  <a:srgbClr val="000000"/>
                </a:solidFill>
                <a:latin typeface="Calibri"/>
                <a:cs typeface="Latha"/>
              </a:rPr>
              <a:t>பார்க்க வருகிறார்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a-IN" sz="2100" spc="-1" strike="noStrike">
                <a:solidFill>
                  <a:srgbClr val="000000"/>
                </a:solidFill>
                <a:latin typeface="Calibri"/>
                <a:cs typeface="Latha"/>
              </a:rPr>
              <a:t>உன்னால் குறிப்பிட்ட ஒரு பாடத்தில் சிறப்பாகச்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a-IN" sz="2100" spc="-1" strike="noStrike">
                <a:solidFill>
                  <a:srgbClr val="000000"/>
                </a:solidFill>
                <a:latin typeface="Calibri"/>
                <a:cs typeface="Latha"/>
              </a:rPr>
              <a:t>செயல்பட முடியவில்லை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84040" algn="just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100" spc="-1" strike="noStrike">
                <a:solidFill>
                  <a:srgbClr val="000000"/>
                </a:solidFill>
                <a:latin typeface="Calibri"/>
                <a:cs typeface="Latha"/>
              </a:rPr>
              <a:t>உன் தந்தை காரணமின்றி உன்னைக் கடிந்து கொள்கிறார்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a-IN" sz="2100" spc="-1" strike="noStrike">
                <a:solidFill>
                  <a:srgbClr val="000000"/>
                </a:solidFill>
                <a:latin typeface="Calibri"/>
                <a:cs typeface="Latha"/>
              </a:rPr>
              <a:t>பள்ளிகளுக்கு இடையே நடைபெறும் விளையாட்டு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a-IN" sz="2100" spc="-1" strike="noStrike">
                <a:solidFill>
                  <a:srgbClr val="000000"/>
                </a:solidFill>
                <a:latin typeface="Calibri"/>
                <a:cs typeface="Latha"/>
              </a:rPr>
              <a:t>போட்டியில் உனது குழுவானது வெற்றி பெறு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கிறது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A050-F20C-441A-82D5-9DB1CAABFA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10480" cy="8683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4400" spc="-1" strike="noStrike">
                <a:solidFill>
                  <a:srgbClr val="ffffff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520" y="1142640"/>
            <a:ext cx="8504280" cy="52578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வேதன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வேதனையென்பது பயம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குற்றம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பதற்றம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அவமானம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உதவியற்ற தன்மை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சந்தேக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ம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சுயகுழப்பம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தனிமை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சோகம் மற்றும் கோபம் ஆகியவற்றைக் கொண்டதாகும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இந்நிலையானத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மன அழுத்தத்தை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சவால்களை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சந்திக்கும்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ஒருவர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தாமே தீர்வு கண்டு தொடர்ந்து நேர்மறையாகச்  செயல்படுவதாகவும்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அல்லது  பிற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ருடைய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உதவியை நாடுவதாகவும் அமைகிறத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வேதனை உணர்வு உடையோரிடம் செயல்பாடுகளில் சரிவ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இயற்கை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க்கு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மீறிய சுறுசுறுப்ப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கோபம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தவறான நடத்தை போன்ற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வற்றைக்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cs typeface="Latha"/>
              </a:rPr>
              <a:t>காணலாம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3BFE-6FDD-4FDC-99E2-FB956A4319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2193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வெவ்வேறு சூழலில் ஒருவர்  எவ்வாறு நடந்து கொள்ள வேண்டும்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228600" y="1219320"/>
            <a:ext cx="8610480" cy="54100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வெவ்வேறான சூழல்களில் நேர்மறையான உணர்வுகளிலிருந்து எதிர் மறையான உணர்வுகள்வரை நாம் அனுபவிக்கின்றோ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எடுத்துக்காட்டாக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மகிழ்ச்சி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திருப்தி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சோக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பதற்றம் போன்றவ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தம்மைச் சுற்றியுள்ளவர்களால் மேலும் நம் உணர்வுகள் வலுப்படுகின்றன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இவ்வகையான உணர்வுகளை வெளிப்படுத்துவது அவசியமாகிறத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ஆனால் அவை நேர்மறை அல்லது எதிர்மறையான உணர்வுகளாக அமைகின்றன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அழுத்தம் மற்றும் கோபம் ஆகியவை மிக முக்கியமான மனவெழுச்சிகள் என்பதை நாம் அடையாளம் காண்பதோடு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அவற்றைச்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சமாளிக்கவு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கட்டுப்படுத்தவும் மற்றும் குறைக்கவும் முடியு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F680-B5CD-406E-8CE5-1A8DF97501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686800" cy="9907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வெவ்வேறு சூழலில் ஒருவர்  எவ்வாறு நடந்து கொள்ள வேண்டும்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52280" y="1066320"/>
            <a:ext cx="8686800" cy="5715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1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அழுத்தம் மற்றும் கோபம் ஆகியவை மிக முக்கியமான மனவெழுச்சிகள் என்பதை நாம் அடையாளம் காண்பதோடு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அவற்றைச்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சமாளிக்கவு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கட்டுப்படுத்தவும் மற்றும் குறைக்கவும் முடியு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ஒருவர் மற்றவர்களோடு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தம்மை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ஒப்பிடுவதைக் காட்டிலும் தம்மைத்தாமே  ஒப்பிடுவது பயனுள்ளதாகவு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ஆரோக்கியமானதாகவும் அமையு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இது அவரின் செயல்பாடுகளை அல்லது நடத்தைகளை தொடர்ந்து முன்னேற்ற வழி வகுக்கும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மிகவும் சவால் தரும் மனவெழுச்சி சூழல்களின்போத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அச்சூழல்களில் சிறப்பாகச் கையாண்டதை ஒரு விவாதமாக்கி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அவற்றைக்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cs typeface="Latha"/>
              </a:rPr>
              <a:t>கரும்பலகையில் பட்டியலிடவும்</a:t>
            </a:r>
            <a:r>
              <a:rPr b="0" lang="en-I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N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D489-DD42-4BDA-BBCB-06AB7C33E1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228600" y="228600"/>
            <a:ext cx="8763120" cy="64008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000000"/>
                </a:solidFill>
                <a:latin typeface="Calibri"/>
                <a:cs typeface="Latha"/>
              </a:rPr>
              <a:t>இசையைக் கேட்டல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000000"/>
                </a:solidFill>
                <a:latin typeface="Calibri"/>
                <a:cs typeface="Latha"/>
              </a:rPr>
              <a:t>பதற்றமாக இருக்கும்போது ஆழ்ந்த மூச்சு பயிற்சி மேற்கொள்ளுதல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000000"/>
                </a:solidFill>
                <a:latin typeface="Calibri"/>
                <a:cs typeface="Latha"/>
              </a:rPr>
              <a:t>கோபமாக இருக்கும்போது விளையாடுதல்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2400" spc="-1" strike="noStrike">
                <a:solidFill>
                  <a:srgbClr val="000000"/>
                </a:solidFill>
                <a:latin typeface="Calibri"/>
                <a:cs typeface="Latha"/>
              </a:rPr>
              <a:t>படிக்கட்டில் ஏறி இறங்குதல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000000"/>
                </a:solidFill>
                <a:latin typeface="Calibri"/>
                <a:cs typeface="Latha"/>
              </a:rPr>
              <a:t>தியானம் அல்லது வழிபடுதல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000000"/>
                </a:solidFill>
                <a:latin typeface="Calibri"/>
                <a:cs typeface="Latha"/>
              </a:rPr>
              <a:t>நிகழ்விடத்தை விட்டு வெளியேறுதல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000000"/>
                </a:solidFill>
                <a:latin typeface="Calibri"/>
                <a:cs typeface="Latha"/>
              </a:rPr>
              <a:t>நிகழ்வில் நேரடியாக பங்கேற்காத நம்பிக்கையுள்ள நபரிடம் உங்கள் உணர்வுகள் குறித்துப் பேசுதல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3120" cy="9144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400" spc="-1" strike="noStrike">
                <a:solidFill>
                  <a:srgbClr val="ffffff"/>
                </a:solidFill>
                <a:latin typeface="Calibri"/>
                <a:cs typeface="Latha"/>
              </a:rPr>
              <a:t>சவால் தரும் மனவெழுச்சி சூழ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லில் சாமாளிக்கும் சில வழிமுறைகள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F07F-8F96-4590-BFB5-06A85A03C5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228600" y="228600"/>
            <a:ext cx="8763120" cy="64008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sten to  favourite mus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ercise or do some physical a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800" spc="-1" strike="noStrike">
                <a:solidFill>
                  <a:srgbClr val="000000"/>
                </a:solidFill>
                <a:latin typeface="Calibri"/>
                <a:cs typeface="Latha"/>
              </a:rPr>
              <a:t>எனக்குப் பிடித்த பாடலைக் கேட்டல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800" spc="-1" strike="noStrike">
                <a:solidFill>
                  <a:srgbClr val="000000"/>
                </a:solidFill>
                <a:latin typeface="Calibri"/>
                <a:cs typeface="Latha"/>
              </a:rPr>
              <a:t>வேலை அல்லது உடற்பயிற்சிகளைச் செய்தல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800" spc="-1" strike="noStrike">
                <a:solidFill>
                  <a:srgbClr val="000000"/>
                </a:solidFill>
                <a:latin typeface="Calibri"/>
                <a:cs typeface="Latha"/>
              </a:rPr>
              <a:t>என்னிடத்தில் கோபமாக உள்ள நபருக்கு கடிதம் எழுதிக் கிழித்தல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800" spc="-1" strike="noStrike">
                <a:solidFill>
                  <a:srgbClr val="000000"/>
                </a:solidFill>
                <a:latin typeface="Calibri"/>
                <a:cs typeface="Latha"/>
              </a:rPr>
              <a:t>நகைச்சுவை திரைப்படங்கள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ப் </a:t>
            </a:r>
            <a:r>
              <a:rPr b="0" lang="ta-IN" sz="2800" spc="-1" strike="noStrike">
                <a:solidFill>
                  <a:srgbClr val="000000"/>
                </a:solidFill>
                <a:latin typeface="Calibri"/>
                <a:cs typeface="Latha"/>
              </a:rPr>
              <a:t>பார்த்தல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800" spc="-1" strike="noStrike">
                <a:solidFill>
                  <a:srgbClr val="000000"/>
                </a:solidFill>
                <a:latin typeface="Calibri"/>
                <a:cs typeface="Latha"/>
              </a:rPr>
              <a:t>நான் விரும்புகின்ற பொழுதுபோக்கில் நேரத்தைச் செலவிட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தல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800" spc="-1" strike="noStrike">
                <a:solidFill>
                  <a:srgbClr val="000000"/>
                </a:solidFill>
                <a:latin typeface="Calibri"/>
                <a:cs typeface="Latha"/>
              </a:rPr>
              <a:t>புதிய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தான </a:t>
            </a:r>
            <a:r>
              <a:rPr b="0" lang="ta-IN" sz="2800" spc="-1" strike="noStrike">
                <a:solidFill>
                  <a:srgbClr val="000000"/>
                </a:solidFill>
                <a:latin typeface="Calibri"/>
                <a:cs typeface="Latha"/>
              </a:rPr>
              <a:t>ஒன்றைப்பெற முயற்சி செய்தல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800" spc="-1" strike="noStrike">
                <a:solidFill>
                  <a:srgbClr val="000000"/>
                </a:solidFill>
                <a:latin typeface="Calibri"/>
                <a:cs typeface="Latha"/>
              </a:rPr>
              <a:t>பிறர்க்கு உதவுதல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3120" cy="9144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400" spc="-1" strike="noStrike">
                <a:solidFill>
                  <a:srgbClr val="ffffff"/>
                </a:solidFill>
                <a:latin typeface="Calibri"/>
                <a:cs typeface="Latha"/>
              </a:rPr>
              <a:t>சவால் தரும் மனவெழுச்சி சூழ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லில் சாமாளிக்கும் சில வழிமுறைகள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4E8D-E068-4E70-92BE-99CAB37D76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பள்ளிக்குள்ளும் பள்ளிக்கு வெளியேயும் குழந்தைகளின் </a:t>
            </a:r>
            <a:r>
              <a:rPr b="1" lang="ta-IN" sz="4400" spc="-1" strike="noStrike">
                <a:solidFill>
                  <a:srgbClr val="ffffff"/>
                </a:solidFill>
                <a:latin typeface="Calibri"/>
                <a:cs typeface="Latha"/>
              </a:rPr>
              <a:t>பாதுகாப்ப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CAB1-C655-4CBD-929C-4D5A21FBB2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228600" y="457200"/>
            <a:ext cx="8686800" cy="6324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சாலைவிதிகள் மற்றும் குறியீடுகளைத் தெரிந்து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கொள்ளுதல்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நின்று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சாலையின் இருபுறங்களையும் கவனித்த பிறகு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சாலையைக் கடத்தல்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ஒலிப்பான்களை உற்றுக் கவனித்தல்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சாலைகளில் ஓடாமல் இருத்தல்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நடக்கும்போது நடைபாதையைப் பயன்படுத்துதல்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வாகனங்களில் செல்லும்போது கை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கால்களை வெளியே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நீட்டாமல் இருத்தல்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சாலை வளைவுகளில் சாலையைக்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கடக்காமலிருத்தல்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itle 1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சாலை  பாதுகாப்பில்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குழந்தைகள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F80F-6C16-4E9D-B7E0-1356B70306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2857680" cy="63248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>
            <a:off x="3048120" y="0"/>
            <a:ext cx="5715000" cy="6477120"/>
          </a:xfrm>
          <a:prstGeom prst="rect">
            <a:avLst/>
          </a:prstGeom>
          <a:ln w="0">
            <a:noFill/>
          </a:ln>
        </p:spPr>
      </p:pic>
      <p:sp>
        <p:nvSpPr>
          <p:cNvPr id="2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18F0-3403-4E7A-A1DE-D867F7EA76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it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4400" spc="-1" strike="noStrike">
                <a:solidFill>
                  <a:srgbClr val="ffffff"/>
                </a:solidFill>
                <a:latin typeface="Calibri"/>
                <a:cs typeface="Latha"/>
              </a:rPr>
              <a:t>வன்முறைகள்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மற்றும்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4400" spc="-1" strike="noStrike">
                <a:solidFill>
                  <a:srgbClr val="ffffff"/>
                </a:solidFill>
                <a:latin typeface="Calibri"/>
                <a:cs typeface="Latha"/>
              </a:rPr>
              <a:t>வன்கொடுமை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கள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6618-0B95-460B-849E-1DA9B103AB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9067680" cy="1096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800" spc="-1" strike="noStrike">
                <a:solidFill>
                  <a:srgbClr val="ffffff"/>
                </a:solidFill>
                <a:latin typeface="Calibri"/>
                <a:cs typeface="Latha"/>
              </a:rPr>
              <a:t>வன்முறைகள்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மற்றும் வ</a:t>
            </a:r>
            <a:r>
              <a:rPr b="1" lang="ta-IN" sz="2800" spc="-1" strike="noStrike">
                <a:solidFill>
                  <a:srgbClr val="ffffff"/>
                </a:solidFill>
                <a:latin typeface="Calibri"/>
                <a:cs typeface="Latha"/>
              </a:rPr>
              <a:t>ன்கொடுமை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கள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01320" y="1143000"/>
            <a:ext cx="8504280" cy="54864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000000"/>
                </a:solidFill>
                <a:latin typeface="Calibri"/>
                <a:cs typeface="Latha"/>
              </a:rPr>
              <a:t>எந்த ஒரு செயலும் மற்றவரை உடல் ரீதியாகவோ</a:t>
            </a:r>
            <a:r>
              <a:rPr b="0" lang="ta-IN" sz="2400" spc="-1" strike="noStrike">
                <a:solidFill>
                  <a:srgbClr val="000000"/>
                </a:solidFill>
                <a:latin typeface="Calibri"/>
                <a:ea typeface="Latha"/>
              </a:rPr>
              <a:t>, </a:t>
            </a:r>
            <a:r>
              <a:rPr b="0" lang="ta-IN" sz="2400" spc="-1" strike="noStrike">
                <a:solidFill>
                  <a:srgbClr val="000000"/>
                </a:solidFill>
                <a:latin typeface="Calibri"/>
                <a:cs typeface="Latha"/>
              </a:rPr>
              <a:t>மனரீதியாகவோ நேரடியாக பாதித்தால்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2400" spc="-1" strike="noStrike">
                <a:solidFill>
                  <a:srgbClr val="000000"/>
                </a:solidFill>
                <a:latin typeface="Calibri"/>
                <a:cs typeface="Latha"/>
              </a:rPr>
              <a:t>அதை வன்முற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வன்கொடுமை </a:t>
            </a:r>
            <a:r>
              <a:rPr b="0" lang="ta-IN" sz="2400" spc="-1" strike="noStrike">
                <a:solidFill>
                  <a:srgbClr val="000000"/>
                </a:solidFill>
                <a:latin typeface="Calibri"/>
                <a:cs typeface="Latha"/>
              </a:rPr>
              <a:t>எனலாம்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வன்கொடும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சாதி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மதம்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கல்வித் தகுதி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கிராமம் நகர்புறம் ஆகியவற்றைக் கடந்தும் அனைவருக்கும் நிகழும் நிகழ்வாக உள்ளத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ஆண் மற்றும் பெண் என இருபாலரும் பாலியல் ரீதியான துன்புறுத்தலுக்கு ஆளாகிறார்கள்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DBFF-2872-44D0-AE0C-F6FDDFB226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குழந்தை வன்கொடுமை – ஆய்வு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, MoWCD 2007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ன் படி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28600" y="8380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இந்தியாவில் தற்போது தேசிய அளவில் நடைபெற்ற கணக்கெடுப்பில்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13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மாநிலங்களிலிருந்து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2,447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குழந்தைகள் பங்கேற்றார்கள்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இதில்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0%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குழந்தைகள் ஏதோ ஒரு வகையில் பாலியல்ரீதியான துன்புறுத்தலுக்கு ஆளாக்கப்பட்டுள்ளதாக புகார் தெரிவித்துள்ளார்கள்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அதில்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3 %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பேர் ஆண் குழந்தைகள்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இவர்கள் பெரும்பாலான சமயங்களில்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உறவினர்கள் அல்லது குடும்ப நண்பர்கள் அல்லது அதிகார வர்க்கத்தினர் ஆகியோரால்  பாதிப்பிற்கு உள்ளாகியுள்ளனர்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அவர்கள் அந்த நிகழ்வை வெளிப்படுத்த முடியாதவராகவும் உள்ளார்கள்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அடிக்கடி பாலியல் துன்புறுத்தல்கள் மற்றும் வன்கொடுமைகள் நடைப்பெற்றாலும்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அது தனக்கு இழுக்கு எனக் கருதி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அவர்கள் புகார்கள் கொடுப்பதில்லை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049A-B90F-4E61-884C-45AAF8DB27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800" spc="-1" strike="noStrike">
                <a:solidFill>
                  <a:srgbClr val="000000"/>
                </a:solidFill>
                <a:latin typeface="Calibri"/>
              </a:rPr>
              <a:t>உடல் ஆரோக்கியம் மற்றும் </a:t>
            </a:r>
            <a:r>
              <a:rPr b="1" lang="ta-IN" sz="2800" spc="-1" strike="noStrike">
                <a:solidFill>
                  <a:srgbClr val="000000"/>
                </a:solidFill>
                <a:latin typeface="Calibri"/>
                <a:cs typeface="Latha"/>
              </a:rPr>
              <a:t>உடல் வளர்ச்சி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5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நிமிடங்கள்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9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3733920" cy="2286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2" descr=""/>
          <p:cNvPicPr/>
          <p:nvPr/>
        </p:nvPicPr>
        <p:blipFill>
          <a:blip r:embed="rId2"/>
          <a:stretch/>
        </p:blipFill>
        <p:spPr>
          <a:xfrm>
            <a:off x="4114800" y="1219320"/>
            <a:ext cx="4343400" cy="228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304920" y="3809880"/>
          <a:ext cx="8610480" cy="2394000"/>
        </p:xfrm>
        <a:graphic>
          <a:graphicData uri="http://schemas.openxmlformats.org/drawingml/2006/table">
            <a:tbl>
              <a:tblPr/>
              <a:tblGrid>
                <a:gridCol w="1722240"/>
                <a:gridCol w="1720800"/>
                <a:gridCol w="1901880"/>
                <a:gridCol w="1187640"/>
                <a:gridCol w="2077920"/>
              </a:tblGrid>
              <a:tr h="447840">
                <a:tc gridSpan="5"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8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வாழ்வின் வெவ்வேறு நிலைகளில் ஏற்படும் மாற்றங்கள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64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8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குழவிப்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ta-IN" sz="18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பருவம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8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குழந்தைப் பருவம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8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குமரப்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ta-IN" sz="18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பருவம்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8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முதிர் பருவம்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8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முதுமைப் பருவம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7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B17D-2D17-4075-82D5-42345350C8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129492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3600" spc="-1" strike="noStrike">
                <a:solidFill>
                  <a:srgbClr val="000000"/>
                </a:solidFill>
                <a:latin typeface="Calibri"/>
                <a:cs typeface="Latha"/>
              </a:rPr>
              <a:t>பாலியல் குற்றங்களிலிருந்து குழந்தைகளைப் பாதுகாக்கும் சட்டம்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(POCSO) Act 201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A973-536E-414D-B2CB-839E12A4CA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800" spc="-1" strike="noStrike">
                <a:solidFill>
                  <a:srgbClr val="ffffff"/>
                </a:solidFill>
                <a:latin typeface="Calibri"/>
                <a:cs typeface="Latha"/>
              </a:rPr>
              <a:t>வன்முறைகள்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மற்றும் வ</a:t>
            </a:r>
            <a:r>
              <a:rPr b="1" lang="ta-IN" sz="2800" spc="-1" strike="noStrike">
                <a:solidFill>
                  <a:srgbClr val="ffffff"/>
                </a:solidFill>
                <a:latin typeface="Calibri"/>
                <a:cs typeface="Latha"/>
              </a:rPr>
              <a:t>ன்கொடுமை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கள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600" spc="-1" strike="noStrike">
                <a:solidFill>
                  <a:srgbClr val="000000"/>
                </a:solidFill>
                <a:latin typeface="Calibri"/>
                <a:cs typeface="Latha"/>
              </a:rPr>
              <a:t>வன்முறையில் பாதிக்கப்படும்போது மற்றவரிடம் உதவிக்கோர வேண்டும்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600" spc="-1" strike="noStrike">
                <a:solidFill>
                  <a:srgbClr val="000000"/>
                </a:solidFill>
                <a:latin typeface="Calibri"/>
                <a:cs typeface="Latha"/>
              </a:rPr>
              <a:t>வன்முறையினை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ப் </a:t>
            </a:r>
            <a:r>
              <a:rPr b="0" lang="ta-IN" sz="1600" spc="-1" strike="noStrike">
                <a:solidFill>
                  <a:srgbClr val="000000"/>
                </a:solidFill>
                <a:latin typeface="Calibri"/>
                <a:cs typeface="Latha"/>
              </a:rPr>
              <a:t>பிறரிடம் கூறாமல் இருப்பது அல்லது அமைதியாக இருப்பது என்பது மோசமான சூழலுக்கு வழிவகுக்கும்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600" spc="-1" strike="noStrike">
                <a:solidFill>
                  <a:srgbClr val="000000"/>
                </a:solidFill>
                <a:latin typeface="Calibri"/>
                <a:cs typeface="Latha"/>
              </a:rPr>
              <a:t>இந்த மாதிரியான சூழல்களில் உதவும் பொருட்டு வெவ்வேறு நபர்கள்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a-IN" sz="1600" spc="-1" strike="noStrike">
                <a:solidFill>
                  <a:srgbClr val="000000"/>
                </a:solidFill>
                <a:latin typeface="Calibri"/>
                <a:cs typeface="Latha"/>
              </a:rPr>
              <a:t>சேவை அமைப்புகள் மற்றும் நிறுவனங்கள் உள்ளன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600" spc="-1" strike="noStrike">
                <a:solidFill>
                  <a:srgbClr val="000000"/>
                </a:solidFill>
                <a:latin typeface="Calibri"/>
                <a:cs typeface="Latha"/>
              </a:rPr>
              <a:t>இத்தகைய வன்முறைச் சூழலை ஒருங்கிணைந்து எதிர்க்க வேண்டியது மிக அவசியமாகிறது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ta-IN" sz="1600" spc="-1" strike="noStrike">
                <a:solidFill>
                  <a:srgbClr val="000000"/>
                </a:solidFill>
                <a:latin typeface="Calibri"/>
                <a:cs typeface="Latha"/>
              </a:rPr>
              <a:t>முடியாது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’ </a:t>
            </a:r>
            <a:r>
              <a:rPr b="0" lang="ta-IN" sz="1600" spc="-1" strike="noStrike">
                <a:solidFill>
                  <a:srgbClr val="000000"/>
                </a:solidFill>
                <a:latin typeface="Calibri"/>
                <a:cs typeface="Latha"/>
              </a:rPr>
              <a:t>என்று உறுதிபடக் கூற வேண்டும்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ta-IN" sz="1600" spc="-1" strike="noStrike">
                <a:solidFill>
                  <a:srgbClr val="000000"/>
                </a:solidFill>
                <a:latin typeface="Calibri"/>
                <a:cs typeface="Latha"/>
              </a:rPr>
              <a:t>கூற கடினமாக இருப்பின்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‘</a:t>
            </a:r>
            <a:r>
              <a:rPr b="0" lang="ta-IN" sz="1600" spc="-1" strike="noStrike">
                <a:solidFill>
                  <a:srgbClr val="000000"/>
                </a:solidFill>
                <a:latin typeface="Calibri"/>
                <a:cs typeface="Latha"/>
              </a:rPr>
              <a:t>முடியாது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’ </a:t>
            </a:r>
            <a:r>
              <a:rPr b="0" lang="ta-IN" sz="1600" spc="-1" strike="noStrike">
                <a:solidFill>
                  <a:srgbClr val="000000"/>
                </a:solidFill>
                <a:latin typeface="Calibri"/>
                <a:cs typeface="Latha"/>
              </a:rPr>
              <a:t>என்பதை யோசிக்க வேண்டும்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600" spc="-1" strike="noStrike">
                <a:solidFill>
                  <a:srgbClr val="000000"/>
                </a:solidFill>
                <a:latin typeface="Calibri"/>
                <a:cs typeface="Latha"/>
              </a:rPr>
              <a:t>வாய்ப்பிருப்பின் பிரச்சினைக்குரிய நபரிடமிருந்து விலகி இருத்தல் வேண்டும்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மக்கள் வட்டம் </a:t>
            </a:r>
            <a:r>
              <a:rPr b="0" lang="ta-IN" sz="1600" spc="-1" strike="noStrike">
                <a:solidFill>
                  <a:srgbClr val="000000"/>
                </a:solidFill>
                <a:latin typeface="Calibri"/>
                <a:cs typeface="Latha"/>
              </a:rPr>
              <a:t>உள்ள பாதுகாப்பான இடத்திற்குச் சென்றிடவேண்டும் அல்லது இணையத்தின் வழியே துன்புறுத்தல் இருப்பின் இணையத்திலிருந்து வெளியேற வேண்டும்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8434-30F0-468B-97A6-9CC5E998BB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"/>
          <p:cNvSpPr/>
          <p:nvPr/>
        </p:nvSpPr>
        <p:spPr>
          <a:xfrm>
            <a:off x="0" y="117000"/>
            <a:ext cx="9144000" cy="75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2084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084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084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2084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தன் குழந்தை படிப்பதற்குத் தந்தை உதவுகிறார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2084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600" spc="-1" strike="noStrike">
                <a:solidFill>
                  <a:srgbClr val="000000"/>
                </a:solidFill>
                <a:latin typeface="Arial"/>
              </a:rPr>
              <a:t>ஒரு குழந்தை</a:t>
            </a:r>
            <a:r>
              <a:rPr b="0" lang="ta-IN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ta-IN" sz="1600" spc="-1" strike="noStrike">
                <a:solidFill>
                  <a:srgbClr val="000000"/>
                </a:solidFill>
                <a:latin typeface="Arial"/>
              </a:rPr>
              <a:t>தன் வீட்டுப்பாடத்தில் பிழை செய்யும்போத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ta-IN" sz="1600" spc="-1" strike="noStrike">
                <a:solidFill>
                  <a:srgbClr val="000000"/>
                </a:solidFill>
                <a:latin typeface="Arial"/>
              </a:rPr>
              <a:t>ஆசிரியர்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அக்குழந்தையை ‘</a:t>
            </a:r>
            <a:r>
              <a:rPr b="0" lang="ta-IN" sz="1600" spc="-1" strike="noStrike">
                <a:solidFill>
                  <a:srgbClr val="000000"/>
                </a:solidFill>
                <a:latin typeface="Arial"/>
              </a:rPr>
              <a:t>முட்டாள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ta-IN" sz="1600" spc="-1" strike="noStrike">
                <a:solidFill>
                  <a:srgbClr val="000000"/>
                </a:solidFill>
                <a:latin typeface="Arial"/>
              </a:rPr>
              <a:t>என அழைக்கிறார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2084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600" spc="-1" strike="noStrike">
                <a:solidFill>
                  <a:srgbClr val="000000"/>
                </a:solidFill>
                <a:latin typeface="Arial"/>
              </a:rPr>
              <a:t>விளையாடும்போது பெரிய பையன் சிறியவனைத் தள்ளுகிறான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2084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600" spc="-1" strike="noStrike">
                <a:solidFill>
                  <a:srgbClr val="000000"/>
                </a:solidFill>
                <a:latin typeface="Arial"/>
              </a:rPr>
              <a:t>ராதாவிற்குக் குட்டையான முடி இருப்பதை அவளது வகுப்புத் தோழி கேலி செய்கிறார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2084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600" spc="-1" strike="noStrike">
                <a:solidFill>
                  <a:srgbClr val="000000"/>
                </a:solidFill>
                <a:latin typeface="Arial"/>
              </a:rPr>
              <a:t>தாய்</a:t>
            </a:r>
            <a:r>
              <a:rPr b="0" lang="ta-IN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ta-IN" sz="1600" spc="-1" strike="noStrike">
                <a:solidFill>
                  <a:srgbClr val="000000"/>
                </a:solidFill>
                <a:latin typeface="Arial"/>
              </a:rPr>
              <a:t>தன் மகள் தயாராக உதவுகிறார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2084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600" spc="-1" strike="noStrike">
                <a:solidFill>
                  <a:srgbClr val="000000"/>
                </a:solidFill>
                <a:latin typeface="Arial"/>
              </a:rPr>
              <a:t>மாணவியர்களைப் பார்த்து மாணவர்கள் விசிலட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க்கிறார்கள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2084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600" spc="-1" strike="noStrike">
                <a:solidFill>
                  <a:srgbClr val="000000"/>
                </a:solidFill>
                <a:latin typeface="Arial"/>
              </a:rPr>
              <a:t>ஒரு புத்தகம் கிழிந்ததால் சோனுவை அவன் அம்மா அடிக்கிறார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2084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600" spc="-1" strike="noStrike">
                <a:solidFill>
                  <a:srgbClr val="000000"/>
                </a:solidFill>
                <a:latin typeface="Arial"/>
              </a:rPr>
              <a:t>ஒரு குழந்தை தனது அண்டை வீட்டார் ஒருவர் தொடுவதை விரும்பவில்ல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2084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600" spc="-1" strike="noStrike">
                <a:solidFill>
                  <a:srgbClr val="000000"/>
                </a:solidFill>
                <a:latin typeface="Arial"/>
              </a:rPr>
              <a:t>ராஜா பெண்களைக் கேலி செய்ததால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ta-IN" sz="1600" spc="-1" strike="noStrike">
                <a:solidFill>
                  <a:srgbClr val="000000"/>
                </a:solidFill>
                <a:latin typeface="Arial"/>
              </a:rPr>
              <a:t>அவன் நண்பர்கள் அவனைக் கேலி செய்கின்றார்கள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2084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600" spc="-1" strike="noStrike">
                <a:solidFill>
                  <a:srgbClr val="000000"/>
                </a:solidFill>
                <a:latin typeface="Arial"/>
              </a:rPr>
              <a:t>கற்பிப்பவர் ஜேம்சை தகாத இடங்களில் தொடுகிறார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2084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600" spc="-1" strike="noStrike">
                <a:solidFill>
                  <a:srgbClr val="000000"/>
                </a:solidFill>
                <a:latin typeface="Arial"/>
              </a:rPr>
              <a:t>ராபர்ட்டும் மீனாவும் க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ta-IN" sz="1600" spc="-1" strike="noStrike">
                <a:solidFill>
                  <a:srgbClr val="000000"/>
                </a:solidFill>
                <a:latin typeface="Arial"/>
              </a:rPr>
              <a:t>கோ விளையாடுகிறார்கள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2084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084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084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itle 1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600" spc="-1" strike="noStrike">
                <a:solidFill>
                  <a:srgbClr val="ffffff"/>
                </a:solidFill>
                <a:latin typeface="Calibri"/>
                <a:cs typeface="Latha"/>
              </a:rPr>
              <a:t>செயல்பாடு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ta-IN" sz="2600" spc="-1" strike="noStrike">
                <a:solidFill>
                  <a:srgbClr val="ffffff"/>
                </a:solidFill>
                <a:latin typeface="Calibri"/>
                <a:cs typeface="Latha"/>
              </a:rPr>
              <a:t>வினாடி வினா நடத்துதல்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வன்முறை எனத் தெரிந்தால் ஆம் அல்லது  இல்லை எனத் கூறுக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4A9A-14F1-421F-8FC5-3C0B329C02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BB58-F35F-47C6-9AE5-74AE63EBDA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it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இணையம்</a:t>
            </a: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கேஜெட் மற்றும் ஊடகத்தைப் பாதுகாப்பாகப் பயன்படுத்துதல்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6D96-1240-4B3E-90AA-6D2509D6F7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"/>
          <p:cNvGraphicFramePr/>
          <p:nvPr/>
        </p:nvGraphicFramePr>
        <p:xfrm>
          <a:off x="228600" y="1066680"/>
          <a:ext cx="8686800" cy="5067360"/>
        </p:xfrm>
        <a:graphic>
          <a:graphicData uri="http://schemas.openxmlformats.org/drawingml/2006/table">
            <a:tbl>
              <a:tblPr/>
              <a:tblGrid>
                <a:gridCol w="1143000"/>
                <a:gridCol w="2209680"/>
                <a:gridCol w="2298960"/>
                <a:gridCol w="3035160"/>
              </a:tblGrid>
              <a:tr h="1127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நேரம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f8fe4"/>
                      </a:solidFill>
                    </a:lnL>
                    <a:lnR w="5760">
                      <a:solidFill>
                        <a:srgbClr val="cf8fe4"/>
                      </a:solidFill>
                    </a:lnR>
                    <a:lnT w="5760">
                      <a:solidFill>
                        <a:srgbClr val="cf8fe4"/>
                      </a:solidFill>
                    </a:lnT>
                    <a:lnB w="9360">
                      <a:solidFill>
                        <a:srgbClr val="b758d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cs typeface="Calibri"/>
                        </a:rPr>
                        <a:t>செயல்பாட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f8fe4"/>
                      </a:solidFill>
                    </a:lnL>
                    <a:lnR w="5760">
                      <a:solidFill>
                        <a:srgbClr val="cf8fe4"/>
                      </a:solidFill>
                    </a:lnR>
                    <a:lnT w="5760">
                      <a:solidFill>
                        <a:srgbClr val="cf8fe4"/>
                      </a:solidFill>
                    </a:lnT>
                    <a:lnB w="9360">
                      <a:solidFill>
                        <a:srgbClr val="b758d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cs typeface="Calibri"/>
                        </a:rPr>
                        <a:t>ஊடகம் அவ்வேளைகளில்  பயன்படுத்தும் பொருட்கள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f8fe4"/>
                      </a:solidFill>
                    </a:lnL>
                    <a:lnR w="5760">
                      <a:solidFill>
                        <a:srgbClr val="cf8fe4"/>
                      </a:solidFill>
                    </a:lnR>
                    <a:lnT w="5760">
                      <a:solidFill>
                        <a:srgbClr val="cf8fe4"/>
                      </a:solidFill>
                    </a:lnT>
                    <a:lnB w="9360">
                      <a:solidFill>
                        <a:srgbClr val="b758d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cs typeface="Calibri"/>
                        </a:rPr>
                        <a:t>ஊடகம்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/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cs typeface="Calibri"/>
                        </a:rPr>
                        <a:t>மற்றும் உபகரணங்களில் செலவிடும் நேரம்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/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cs typeface="Calibri"/>
                        </a:rPr>
                        <a:t>அதற்கான காரணம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f8fe4"/>
                      </a:solidFill>
                    </a:lnL>
                    <a:lnR w="5760">
                      <a:solidFill>
                        <a:srgbClr val="cf8fe4"/>
                      </a:solidFill>
                    </a:lnR>
                    <a:lnT w="5760">
                      <a:solidFill>
                        <a:srgbClr val="cf8fe4"/>
                      </a:solidFill>
                    </a:lnT>
                    <a:lnB w="9360">
                      <a:solidFill>
                        <a:srgbClr val="b758d6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6.00 - 7.00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cs typeface="Calibri"/>
                        </a:rPr>
                        <a:t>ம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cs typeface="Calibri"/>
                        </a:rPr>
                        <a:t>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f8fe4"/>
                      </a:solidFill>
                    </a:lnL>
                    <a:lnR w="5760">
                      <a:solidFill>
                        <a:srgbClr val="cf8fe4"/>
                      </a:solidFill>
                    </a:lnR>
                    <a:lnT w="9360">
                      <a:solidFill>
                        <a:srgbClr val="b758d6"/>
                      </a:solidFill>
                    </a:lnT>
                    <a:lnB w="5760">
                      <a:solidFill>
                        <a:srgbClr val="cf8fe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cs typeface="Calibri"/>
                        </a:rPr>
                        <a:t>காலையில் எழுந்து தயாராதல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f8fe4"/>
                      </a:solidFill>
                    </a:lnL>
                    <a:lnR w="5760">
                      <a:solidFill>
                        <a:srgbClr val="cf8fe4"/>
                      </a:solidFill>
                    </a:lnR>
                    <a:lnT w="9360">
                      <a:solidFill>
                        <a:srgbClr val="b758d6"/>
                      </a:solidFill>
                    </a:lnT>
                    <a:lnB w="5760">
                      <a:solidFill>
                        <a:srgbClr val="cf8fe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cs typeface="Calibri"/>
                        </a:rPr>
                        <a:t>செய்தித்தாள்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f8fe4"/>
                      </a:solidFill>
                    </a:lnL>
                    <a:lnR w="5760">
                      <a:solidFill>
                        <a:srgbClr val="cf8fe4"/>
                      </a:solidFill>
                    </a:lnR>
                    <a:lnT w="9360">
                      <a:solidFill>
                        <a:srgbClr val="b758d6"/>
                      </a:solidFill>
                    </a:lnT>
                    <a:lnB w="5760">
                      <a:solidFill>
                        <a:srgbClr val="cf8fe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f8fe4"/>
                      </a:solidFill>
                    </a:lnL>
                    <a:lnR w="5760">
                      <a:solidFill>
                        <a:srgbClr val="cf8fe4"/>
                      </a:solidFill>
                    </a:lnR>
                    <a:lnT w="9360">
                      <a:solidFill>
                        <a:srgbClr val="b758d6"/>
                      </a:solidFill>
                    </a:lnT>
                    <a:lnB w="5760">
                      <a:solidFill>
                        <a:srgbClr val="cf8fe4"/>
                      </a:solidFill>
                    </a:lnB>
                    <a:noFill/>
                  </a:tcPr>
                </a:tc>
              </a:tr>
              <a:tr h="123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7.00 - 7.30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cs typeface="Calibri"/>
                        </a:rPr>
                        <a:t>ம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cs typeface="Calibri"/>
                        </a:rPr>
                        <a:t>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f8fe4"/>
                      </a:solidFill>
                    </a:lnL>
                    <a:lnR w="5760">
                      <a:solidFill>
                        <a:srgbClr val="cf8fe4"/>
                      </a:solidFill>
                    </a:lnR>
                    <a:lnT w="5760">
                      <a:solidFill>
                        <a:srgbClr val="cf8fe4"/>
                      </a:solidFill>
                    </a:lnT>
                    <a:lnB w="5760">
                      <a:solidFill>
                        <a:srgbClr val="cf8fe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cs typeface="Calibri"/>
                        </a:rPr>
                        <a:t>காலை சிற்றுண்டிக்குப்   பின் பள்ளிக்குச் செல்லுதல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f8fe4"/>
                      </a:solidFill>
                    </a:lnL>
                    <a:lnR w="5760">
                      <a:solidFill>
                        <a:srgbClr val="cf8fe4"/>
                      </a:solidFill>
                    </a:lnR>
                    <a:lnT w="5760">
                      <a:solidFill>
                        <a:srgbClr val="cf8fe4"/>
                      </a:solidFill>
                    </a:lnT>
                    <a:lnB w="5760">
                      <a:solidFill>
                        <a:srgbClr val="cf8fe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cs typeface="Calibri"/>
                        </a:rPr>
                        <a:t>வானொல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f8fe4"/>
                      </a:solidFill>
                    </a:lnL>
                    <a:lnR w="5760">
                      <a:solidFill>
                        <a:srgbClr val="cf8fe4"/>
                      </a:solidFill>
                    </a:lnR>
                    <a:lnT w="5760">
                      <a:solidFill>
                        <a:srgbClr val="cf8fe4"/>
                      </a:solidFill>
                    </a:lnT>
                    <a:lnB w="5760">
                      <a:solidFill>
                        <a:srgbClr val="cf8fe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cs typeface="Calibri"/>
                        </a:rPr>
                        <a:t>பாடல் கேட்டல்    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(5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cs typeface="Calibri"/>
                        </a:rPr>
                        <a:t>நிமிடங்கள்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f8fe4"/>
                      </a:solidFill>
                    </a:lnL>
                    <a:lnR w="5760">
                      <a:solidFill>
                        <a:srgbClr val="cf8fe4"/>
                      </a:solidFill>
                    </a:lnR>
                    <a:lnT w="5760">
                      <a:solidFill>
                        <a:srgbClr val="cf8fe4"/>
                      </a:solidFill>
                    </a:lnT>
                    <a:lnB w="5760">
                      <a:solidFill>
                        <a:srgbClr val="cf8fe4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f8fe4"/>
                      </a:solidFill>
                    </a:lnL>
                    <a:lnR w="5760">
                      <a:solidFill>
                        <a:srgbClr val="cf8fe4"/>
                      </a:solidFill>
                    </a:lnR>
                    <a:lnT w="5760">
                      <a:solidFill>
                        <a:srgbClr val="cf8fe4"/>
                      </a:solidFill>
                    </a:lnT>
                    <a:lnB w="5760">
                      <a:solidFill>
                        <a:srgbClr val="cf8fe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f8fe4"/>
                      </a:solidFill>
                    </a:lnL>
                    <a:lnR w="5760">
                      <a:solidFill>
                        <a:srgbClr val="cf8fe4"/>
                      </a:solidFill>
                    </a:lnR>
                    <a:lnT w="5760">
                      <a:solidFill>
                        <a:srgbClr val="cf8fe4"/>
                      </a:solidFill>
                    </a:lnT>
                    <a:lnB w="5760">
                      <a:solidFill>
                        <a:srgbClr val="cf8fe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f8fe4"/>
                      </a:solidFill>
                    </a:lnL>
                    <a:lnR w="5760">
                      <a:solidFill>
                        <a:srgbClr val="cf8fe4"/>
                      </a:solidFill>
                    </a:lnR>
                    <a:lnT w="5760">
                      <a:solidFill>
                        <a:srgbClr val="cf8fe4"/>
                      </a:solidFill>
                    </a:lnT>
                    <a:lnB w="5760">
                      <a:solidFill>
                        <a:srgbClr val="cf8fe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f8fe4"/>
                      </a:solidFill>
                    </a:lnL>
                    <a:lnR w="5760">
                      <a:solidFill>
                        <a:srgbClr val="cf8fe4"/>
                      </a:solidFill>
                    </a:lnR>
                    <a:lnT w="5760">
                      <a:solidFill>
                        <a:srgbClr val="cf8fe4"/>
                      </a:solidFill>
                    </a:lnT>
                    <a:lnB w="5760">
                      <a:solidFill>
                        <a:srgbClr val="cf8fe4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f8fe4"/>
                      </a:solidFill>
                    </a:lnL>
                    <a:lnR w="5760">
                      <a:solidFill>
                        <a:srgbClr val="cf8fe4"/>
                      </a:solidFill>
                    </a:lnR>
                    <a:lnT w="5760">
                      <a:solidFill>
                        <a:srgbClr val="cf8fe4"/>
                      </a:solidFill>
                    </a:lnT>
                    <a:lnB w="5760">
                      <a:solidFill>
                        <a:srgbClr val="cf8fe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f8fe4"/>
                      </a:solidFill>
                    </a:lnL>
                    <a:lnR w="5760">
                      <a:solidFill>
                        <a:srgbClr val="cf8fe4"/>
                      </a:solidFill>
                    </a:lnR>
                    <a:lnT w="5760">
                      <a:solidFill>
                        <a:srgbClr val="cf8fe4"/>
                      </a:solidFill>
                    </a:lnT>
                    <a:lnB w="5760">
                      <a:solidFill>
                        <a:srgbClr val="cf8fe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f8fe4"/>
                      </a:solidFill>
                    </a:lnL>
                    <a:lnR w="5760">
                      <a:solidFill>
                        <a:srgbClr val="cf8fe4"/>
                      </a:solidFill>
                    </a:lnR>
                    <a:lnT w="5760">
                      <a:solidFill>
                        <a:srgbClr val="cf8fe4"/>
                      </a:solidFill>
                    </a:lnT>
                    <a:lnB w="5760">
                      <a:solidFill>
                        <a:srgbClr val="cf8fe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f8fe4"/>
                      </a:solidFill>
                    </a:lnL>
                    <a:lnR w="5760">
                      <a:solidFill>
                        <a:srgbClr val="cf8fe4"/>
                      </a:solidFill>
                    </a:lnR>
                    <a:lnT w="5760">
                      <a:solidFill>
                        <a:srgbClr val="cf8fe4"/>
                      </a:solidFill>
                    </a:lnT>
                    <a:lnB w="5760">
                      <a:solidFill>
                        <a:srgbClr val="cf8fe4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f8fe4"/>
                      </a:solidFill>
                    </a:lnL>
                    <a:lnR w="5760">
                      <a:solidFill>
                        <a:srgbClr val="cf8fe4"/>
                      </a:solidFill>
                    </a:lnR>
                    <a:lnT w="5760">
                      <a:solidFill>
                        <a:srgbClr val="cf8fe4"/>
                      </a:solidFill>
                    </a:lnT>
                    <a:lnB w="5760">
                      <a:solidFill>
                        <a:srgbClr val="cf8fe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f8fe4"/>
                      </a:solidFill>
                    </a:lnL>
                    <a:lnR w="5760">
                      <a:solidFill>
                        <a:srgbClr val="cf8fe4"/>
                      </a:solidFill>
                    </a:lnR>
                    <a:lnT w="5760">
                      <a:solidFill>
                        <a:srgbClr val="cf8fe4"/>
                      </a:solidFill>
                    </a:lnT>
                    <a:lnB w="5760">
                      <a:solidFill>
                        <a:srgbClr val="cf8fe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f8fe4"/>
                      </a:solidFill>
                    </a:lnL>
                    <a:lnR w="5760">
                      <a:solidFill>
                        <a:srgbClr val="cf8fe4"/>
                      </a:solidFill>
                    </a:lnR>
                    <a:lnT w="5760">
                      <a:solidFill>
                        <a:srgbClr val="cf8fe4"/>
                      </a:solidFill>
                    </a:lnT>
                    <a:lnB w="5760">
                      <a:solidFill>
                        <a:srgbClr val="cf8fe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f8fe4"/>
                      </a:solidFill>
                    </a:lnL>
                    <a:lnR w="5760">
                      <a:solidFill>
                        <a:srgbClr val="cf8fe4"/>
                      </a:solidFill>
                    </a:lnR>
                    <a:lnT w="5760">
                      <a:solidFill>
                        <a:srgbClr val="cf8fe4"/>
                      </a:solidFill>
                    </a:lnT>
                    <a:lnB w="5760">
                      <a:solidFill>
                        <a:srgbClr val="cf8fe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Title 1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000" spc="-1" strike="noStrike">
                <a:solidFill>
                  <a:srgbClr val="ffffff"/>
                </a:solidFill>
                <a:latin typeface="Calibri"/>
                <a:cs typeface="Latha"/>
              </a:rPr>
              <a:t>செயல்பாடு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: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நேர் மற்றும் எதிர் மறையான தகவல்களைப் பிரித்தறிதல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EC15C-8AF0-4E2A-9874-88AEC48313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788688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வாழ்வியல் திறன்கள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217440" y="380880"/>
          <a:ext cx="8774280" cy="6309000"/>
        </p:xfrm>
        <a:graphic>
          <a:graphicData uri="http://schemas.openxmlformats.org/drawingml/2006/table">
            <a:tbl>
              <a:tblPr/>
              <a:tblGrid>
                <a:gridCol w="2257560"/>
                <a:gridCol w="6516720"/>
              </a:tblGrid>
              <a:tr h="6811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  <a:cs typeface="Calibri"/>
                        </a:rPr>
                        <a:t>சுயவிழிப்புணர்வ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marL="133200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இது தன்னையறிதல்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தன் குணங்கள்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பலம்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முன்னேற்றமான பகுதிகள்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முன்னுரிம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நம்பிக்கை ம்ற்றும் விழுமியங்கள் ஆகியவை உள்ளடக்கியது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பிரச்சினையைத் தீர்த்தல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marL="133200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ஒரு பிரச்சினையை தீர்க்கவும்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சமாளிக்கவும் உதவும் திறன்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தீர்க்க இயலாதவைகள்  நம் பல்ம் ம்ற்றும் அழுத்த்தை அறிய உதவுகின்றன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முடிவெடுக்கும் திறன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marL="133200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இருக்கும் வாய்ப்புகள் குறித்து மதிப்பிட்டு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ஆக்கபூர்வமான முடிவைப் பெறுதல் மற்றும் உகந்தவாறு செயல்படுத்துதல்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சூழலுக்கேற்றவாறு சிந்திக்கும் திறன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marL="133200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பல்வேறு வகையில் விவரங்களைப் பகுத்தாராயவும்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அதே நோக்கத்தோடு மதிப்பிடம் திறன்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படைக்கும் திறன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marL="133200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துரித தன்ம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நெகிழ்வுத் தன்ம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உண்மைத் தன்மை ம்ற்றும் விரிவுபடுத்துதல் ஆகியவற்றின் மூலம் புதிய வழியில் பார்த்தல் ம்ற்றும் செயல்படும் திறன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பிறரின் நிலையிலிருந்து பார்த்தல்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mpath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marL="133200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பிறரின் வாழ்க்கையினைப் புரிந்துக் கொள்வதோடு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அவரின் நிலையிலிருந்துப் பார்த்தல்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மனவெழுச்சியை மேலாண்மை செய்தல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marL="133200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ஒருவர்  தன் மற்றும் பிறரின் மனவெழுச்சிகளை உணர்ந்து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தனது நடத்தையை  வழிநடத்துதல்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மேலும் இது மனதினை மேம்படுத்தும் மனவெழுச்சிகளை மேலாண்மைச் செய்ய உதவும் திறன்களைக் கொண்டது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8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தன் சார்ந்த திறன்களும் பரிமாறிக் கொள்ளும் திறன்களும்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Interpersonal Skills And Effective Communicat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marL="133200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ஒருவர் தான் சார்ந்தவரோடு நேர்மறையாக  சுமூகமாக இருத்தல் ம்ற்றும் ஒருவர் தன்னை வெவ்வேறு சூழலுக்கு உகந்தவாறு சொற்சார்ந்த ம்ற்றும் சொற்சாரா வகைகளில் கருத்துகளை வெளிப்படுத்தும் திற்ன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A042-F28E-49FF-A0D8-90AE68F288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வாழ்வியல் திறன்கள்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88390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tique Oliv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tique Olive"/>
              </a:rPr>
              <a:t>மாணவர்கள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tique Olive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tique Olive"/>
              </a:rPr>
              <a:t>ஆசிரியர்கள்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Diagram 9" descr=""/>
          <p:cNvPicPr/>
          <p:nvPr/>
        </p:nvPicPr>
        <p:blipFill>
          <a:blip r:embed="rId1"/>
          <a:stretch/>
        </p:blipFill>
        <p:spPr>
          <a:xfrm>
            <a:off x="1676520" y="939960"/>
            <a:ext cx="6095880" cy="2692080"/>
          </a:xfrm>
          <a:prstGeom prst="rect">
            <a:avLst/>
          </a:prstGeom>
          <a:ln w="0">
            <a:noFill/>
          </a:ln>
        </p:spPr>
      </p:pic>
      <p:pic>
        <p:nvPicPr>
          <p:cNvPr id="325" name="Diagram 11" descr=""/>
          <p:cNvPicPr/>
          <p:nvPr/>
        </p:nvPicPr>
        <p:blipFill>
          <a:blip r:embed="rId2"/>
          <a:stretch/>
        </p:blipFill>
        <p:spPr>
          <a:xfrm>
            <a:off x="1676520" y="3987720"/>
            <a:ext cx="6476760" cy="2667240"/>
          </a:xfrm>
          <a:prstGeom prst="rect">
            <a:avLst/>
          </a:prstGeom>
          <a:ln w="0">
            <a:noFill/>
          </a:ln>
        </p:spPr>
      </p:pic>
      <p:sp>
        <p:nvSpPr>
          <p:cNvPr id="32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6026-9B4B-4B4D-8DDB-9A3ED169D2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செயல்பாடுகள்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வினா பெட்ட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பங்கேற்று நடித்தல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குழு விவாதம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கலந்துரையாடல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வினாடி வின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தனியாள் ஆய்வ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விழுமியங்களில் தெளிவு பெறல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4A1E-C939-4566-A4DD-DA65C3ADB7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itle 1" descr=""/>
          <p:cNvPicPr/>
          <p:nvPr/>
        </p:nvPicPr>
        <p:blipFill>
          <a:blip r:embed="rId1"/>
          <a:stretch/>
        </p:blipFill>
        <p:spPr>
          <a:xfrm>
            <a:off x="328680" y="500040"/>
            <a:ext cx="8643960" cy="5821560"/>
          </a:xfrm>
          <a:prstGeom prst="rect">
            <a:avLst/>
          </a:prstGeom>
          <a:ln w="0">
            <a:noFill/>
          </a:ln>
        </p:spPr>
      </p:pic>
      <p:sp>
        <p:nvSpPr>
          <p:cNvPr id="33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6322-AEC8-4D84-AA84-F3E6D68807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4"/>
          <p:cNvSpPr/>
          <p:nvPr/>
        </p:nvSpPr>
        <p:spPr>
          <a:xfrm>
            <a:off x="0" y="1555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இந்தியாவில் குழந்தைகளின் சுகாதாரம் குறித்தான விளக்கப் படம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8"/>
          <p:cNvGrpSpPr/>
          <p:nvPr/>
        </p:nvGrpSpPr>
        <p:grpSpPr>
          <a:xfrm>
            <a:off x="1979640" y="1295280"/>
            <a:ext cx="1297080" cy="3419640"/>
            <a:chOff x="1979640" y="1295280"/>
            <a:chExt cx="1297080" cy="3419640"/>
          </a:xfrm>
        </p:grpSpPr>
        <p:sp>
          <p:nvSpPr>
            <p:cNvPr id="72" name="Right Arrow 57"/>
            <p:cNvSpPr/>
            <p:nvPr/>
          </p:nvSpPr>
          <p:spPr>
            <a:xfrm rot="5400000">
              <a:off x="1968480" y="3560400"/>
              <a:ext cx="1165320" cy="1143360"/>
            </a:xfrm>
            <a:prstGeom prst="rightArrow">
              <a:avLst>
                <a:gd name="adj1" fmla="val 50000"/>
                <a:gd name="adj2" fmla="val 50960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58"/>
            <p:cNvGrpSpPr/>
            <p:nvPr/>
          </p:nvGrpSpPr>
          <p:grpSpPr>
            <a:xfrm>
              <a:off x="1981080" y="1295280"/>
              <a:ext cx="1295640" cy="1508400"/>
              <a:chOff x="1981080" y="1295280"/>
              <a:chExt cx="1295640" cy="1508400"/>
            </a:xfrm>
          </p:grpSpPr>
          <p:sp>
            <p:nvSpPr>
              <p:cNvPr id="74" name="TextBox 61"/>
              <p:cNvSpPr/>
              <p:nvPr/>
            </p:nvSpPr>
            <p:spPr>
              <a:xfrm>
                <a:off x="1981080" y="1523880"/>
                <a:ext cx="1242000" cy="127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d0d0d"/>
                    </a:solidFill>
                    <a:latin typeface="Calibri"/>
                  </a:rPr>
                  <a:t> </a:t>
                </a:r>
                <a:r>
                  <a:rPr b="0" lang="en-US" sz="1200" spc="-1" strike="noStrike">
                    <a:solidFill>
                      <a:srgbClr val="0d0d0d"/>
                    </a:solidFill>
                    <a:latin typeface="Calibri"/>
                  </a:rPr>
                  <a:t>பெண்கள் இரத்த சோகையால் பாதிப்பு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TextBox 62"/>
              <p:cNvSpPr/>
              <p:nvPr/>
            </p:nvSpPr>
            <p:spPr>
              <a:xfrm>
                <a:off x="2209680" y="1295280"/>
                <a:ext cx="1067040" cy="21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marL="512640" indent="-512640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4f81bd"/>
                    </a:solidFill>
                    <a:latin typeface="Calibri"/>
                  </a:rPr>
                  <a:t>54%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6" name="Picture 59" descr=""/>
            <p:cNvPicPr/>
            <p:nvPr/>
          </p:nvPicPr>
          <p:blipFill>
            <a:blip r:embed="rId1"/>
            <a:stretch/>
          </p:blipFill>
          <p:spPr>
            <a:xfrm>
              <a:off x="2393640" y="2846520"/>
              <a:ext cx="297000" cy="70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" name="TextBox 105"/>
          <p:cNvSpPr/>
          <p:nvPr/>
        </p:nvSpPr>
        <p:spPr>
          <a:xfrm>
            <a:off x="36360" y="6413400"/>
            <a:ext cx="65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7f7f7f"/>
                </a:solidFill>
                <a:latin typeface="Calibri"/>
              </a:rPr>
              <a:t>Source: WHO 2008; WHO 2009; WHO 2011, NFHS4, NCRB 2015, GATS 2016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52"/>
          <p:cNvGrpSpPr/>
          <p:nvPr/>
        </p:nvGrpSpPr>
        <p:grpSpPr>
          <a:xfrm>
            <a:off x="0" y="1295280"/>
            <a:ext cx="3352680" cy="4642560"/>
            <a:chOff x="0" y="1295280"/>
            <a:chExt cx="3352680" cy="4642560"/>
          </a:xfrm>
        </p:grpSpPr>
        <p:sp>
          <p:nvSpPr>
            <p:cNvPr id="79" name="Right Arrow 53"/>
            <p:cNvSpPr/>
            <p:nvPr/>
          </p:nvSpPr>
          <p:spPr>
            <a:xfrm rot="5400000">
              <a:off x="91800" y="3234600"/>
              <a:ext cx="1265400" cy="1143000"/>
            </a:xfrm>
            <a:prstGeom prst="rightArrow">
              <a:avLst>
                <a:gd name="adj1" fmla="val 50000"/>
                <a:gd name="adj2" fmla="val 55354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Group 54"/>
            <p:cNvGrpSpPr/>
            <p:nvPr/>
          </p:nvGrpSpPr>
          <p:grpSpPr>
            <a:xfrm>
              <a:off x="75960" y="1295280"/>
              <a:ext cx="1569960" cy="981000"/>
              <a:chOff x="75960" y="1295280"/>
              <a:chExt cx="1569960" cy="981000"/>
            </a:xfrm>
          </p:grpSpPr>
          <p:sp>
            <p:nvSpPr>
              <p:cNvPr id="81" name="TextBox 63"/>
              <p:cNvSpPr/>
              <p:nvPr/>
            </p:nvSpPr>
            <p:spPr>
              <a:xfrm>
                <a:off x="75960" y="1634760"/>
                <a:ext cx="15699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d0d0d"/>
                    </a:solidFill>
                    <a:latin typeface="Calibri"/>
                  </a:rPr>
                  <a:t>மனநல குறைபாடு உடையோர்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TextBox 66"/>
              <p:cNvSpPr/>
              <p:nvPr/>
            </p:nvSpPr>
            <p:spPr>
              <a:xfrm>
                <a:off x="477360" y="1295280"/>
                <a:ext cx="846000" cy="34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marL="512640" indent="-512640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4f81bd"/>
                    </a:solidFill>
                    <a:latin typeface="Calibri"/>
                  </a:rPr>
                  <a:t>14%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TextBox 55"/>
            <p:cNvSpPr/>
            <p:nvPr/>
          </p:nvSpPr>
          <p:spPr>
            <a:xfrm>
              <a:off x="0" y="4608720"/>
              <a:ext cx="160020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240" rIns="5724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ஒரு ம்ணிநேரத்திற்கு  ஒரு மாணவன் தற்கொலைச் செய்து கொள்கிறான்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Picture 56" descr=""/>
            <p:cNvPicPr/>
            <p:nvPr/>
          </p:nvPicPr>
          <p:blipFill>
            <a:blip r:embed="rId2"/>
            <a:stretch/>
          </p:blipFill>
          <p:spPr>
            <a:xfrm>
              <a:off x="534240" y="2482920"/>
              <a:ext cx="389880" cy="6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Box 44"/>
            <p:cNvSpPr/>
            <p:nvPr/>
          </p:nvSpPr>
          <p:spPr>
            <a:xfrm>
              <a:off x="1752480" y="4876920"/>
              <a:ext cx="1600200" cy="106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240" rIns="57240" tIns="28440" bIns="284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262626"/>
                  </a:solidFill>
                  <a:latin typeface="Calibri"/>
                </a:rPr>
                <a:t>இரத்த் சோகையின் இடைநிலை சுழற்சியை நிலைநிறுத்துகிறத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Right Arrow 74"/>
          <p:cNvSpPr/>
          <p:nvPr/>
        </p:nvSpPr>
        <p:spPr>
          <a:xfrm rot="5400000">
            <a:off x="3611880" y="3394800"/>
            <a:ext cx="1028880" cy="109692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8"/>
          <p:cNvSpPr/>
          <p:nvPr/>
        </p:nvSpPr>
        <p:spPr>
          <a:xfrm>
            <a:off x="3429000" y="4495680"/>
            <a:ext cx="1600200" cy="14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புகையிலையினால்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0%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மாற்ற முடியாத கடனீடுகள்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(NCDs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9"/>
          <p:cNvGrpSpPr/>
          <p:nvPr/>
        </p:nvGrpSpPr>
        <p:grpSpPr>
          <a:xfrm>
            <a:off x="6934320" y="1295280"/>
            <a:ext cx="1981080" cy="5014440"/>
            <a:chOff x="6934320" y="1295280"/>
            <a:chExt cx="1981080" cy="5014440"/>
          </a:xfrm>
        </p:grpSpPr>
        <p:sp>
          <p:nvSpPr>
            <p:cNvPr id="89" name="Right Arrow 92"/>
            <p:cNvSpPr/>
            <p:nvPr/>
          </p:nvSpPr>
          <p:spPr>
            <a:xfrm rot="5400000">
              <a:off x="7235640" y="3660840"/>
              <a:ext cx="1100160" cy="1093680"/>
            </a:xfrm>
            <a:prstGeom prst="rightArrow">
              <a:avLst>
                <a:gd name="adj1" fmla="val 50000"/>
                <a:gd name="adj2" fmla="val 50296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96"/>
            <p:cNvGrpSpPr/>
            <p:nvPr/>
          </p:nvGrpSpPr>
          <p:grpSpPr>
            <a:xfrm>
              <a:off x="6934320" y="1295280"/>
              <a:ext cx="1954440" cy="1458720"/>
              <a:chOff x="6934320" y="1295280"/>
              <a:chExt cx="1954440" cy="1458720"/>
            </a:xfrm>
          </p:grpSpPr>
          <p:grpSp>
            <p:nvGrpSpPr>
              <p:cNvPr id="91" name="Group 103"/>
              <p:cNvGrpSpPr/>
              <p:nvPr/>
            </p:nvGrpSpPr>
            <p:grpSpPr>
              <a:xfrm>
                <a:off x="6934320" y="1295280"/>
                <a:ext cx="1945080" cy="1189440"/>
                <a:chOff x="6934320" y="1295280"/>
                <a:chExt cx="1945080" cy="1189440"/>
              </a:xfrm>
            </p:grpSpPr>
            <p:sp>
              <p:nvSpPr>
                <p:cNvPr id="92" name="TextBox 106"/>
                <p:cNvSpPr/>
                <p:nvPr/>
              </p:nvSpPr>
              <p:spPr>
                <a:xfrm>
                  <a:off x="6934320" y="1523880"/>
                  <a:ext cx="1945080" cy="96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d0d0d"/>
                      </a:solidFill>
                      <a:latin typeface="Calibri"/>
                    </a:rPr>
                    <a:t>18</a:t>
                  </a:r>
                  <a:r>
                    <a:rPr b="0" lang="en-US" sz="1200" spc="-1" strike="noStrike">
                      <a:solidFill>
                        <a:srgbClr val="0d0d0d"/>
                      </a:solidFill>
                      <a:latin typeface="Calibri"/>
                    </a:rPr>
                    <a:t> </a:t>
                  </a:r>
                  <a:r>
                    <a:rPr b="0" lang="en-US" sz="1200" spc="-1" strike="noStrike">
                      <a:solidFill>
                        <a:srgbClr val="0d0d0d"/>
                      </a:solidFill>
                      <a:latin typeface="Calibri"/>
                    </a:rPr>
                    <a:t>க்கும்  குறைவான வயதில்   பெண்கள் திருமணம்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TextBox 107"/>
                <p:cNvSpPr/>
                <p:nvPr/>
              </p:nvSpPr>
              <p:spPr>
                <a:xfrm>
                  <a:off x="7400880" y="1295280"/>
                  <a:ext cx="1133640" cy="21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pPr marL="512640" indent="-512640">
                    <a:lnSpc>
                      <a:spcPts val="9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4f81bd"/>
                      </a:solidFill>
                      <a:latin typeface="Calibri"/>
                    </a:rPr>
                    <a:t>27%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" name="TextBox 104"/>
              <p:cNvSpPr/>
              <p:nvPr/>
            </p:nvSpPr>
            <p:spPr>
              <a:xfrm>
                <a:off x="6934320" y="2361960"/>
                <a:ext cx="1954440" cy="39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TextBox 100"/>
            <p:cNvSpPr/>
            <p:nvPr/>
          </p:nvSpPr>
          <p:spPr>
            <a:xfrm>
              <a:off x="6934320" y="4495680"/>
              <a:ext cx="1981080" cy="18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240" rIns="57240" tIns="28440" bIns="284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N" sz="1400" spc="-1" strike="noStrike">
                  <a:solidFill>
                    <a:srgbClr val="000000"/>
                  </a:solidFill>
                  <a:latin typeface="Calibri"/>
                </a:rPr>
                <a:t>8% </a:t>
              </a:r>
              <a:r>
                <a:rPr b="1" lang="en-IN" sz="1100" spc="-1" strike="noStrike">
                  <a:solidFill>
                    <a:srgbClr val="000000"/>
                  </a:solidFill>
                  <a:latin typeface="Calibri"/>
                </a:rPr>
                <a:t>திருமண வயதிற்கு முன்பாக தாய்மையடைவதால் குறைபாடுடைய குழந்தைகளாக பிறக்கிறார்கள்</a:t>
              </a:r>
              <a:r>
                <a:rPr b="0" lang="en-IN" sz="11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102" descr=""/>
            <p:cNvPicPr/>
            <p:nvPr/>
          </p:nvPicPr>
          <p:blipFill>
            <a:blip r:embed="rId3"/>
            <a:stretch/>
          </p:blipFill>
          <p:spPr>
            <a:xfrm>
              <a:off x="7612560" y="2742840"/>
              <a:ext cx="466920" cy="77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" name="Group 108"/>
          <p:cNvGrpSpPr/>
          <p:nvPr/>
        </p:nvGrpSpPr>
        <p:grpSpPr>
          <a:xfrm>
            <a:off x="5375160" y="1219320"/>
            <a:ext cx="1641600" cy="4834080"/>
            <a:chOff x="5375160" y="1219320"/>
            <a:chExt cx="1641600" cy="4834080"/>
          </a:xfrm>
        </p:grpSpPr>
        <p:sp>
          <p:nvSpPr>
            <p:cNvPr id="98" name="Right Arrow 109"/>
            <p:cNvSpPr/>
            <p:nvPr/>
          </p:nvSpPr>
          <p:spPr>
            <a:xfrm rot="5400000">
              <a:off x="5476680" y="3495600"/>
              <a:ext cx="1162080" cy="990720"/>
            </a:xfrm>
            <a:prstGeom prst="rightArrow">
              <a:avLst>
                <a:gd name="adj1" fmla="val 50000"/>
                <a:gd name="adj2" fmla="val 58648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110"/>
            <p:cNvGrpSpPr/>
            <p:nvPr/>
          </p:nvGrpSpPr>
          <p:grpSpPr>
            <a:xfrm>
              <a:off x="5410080" y="1219320"/>
              <a:ext cx="1606680" cy="907920"/>
              <a:chOff x="5410080" y="1219320"/>
              <a:chExt cx="1606680" cy="907920"/>
            </a:xfrm>
          </p:grpSpPr>
          <p:sp>
            <p:nvSpPr>
              <p:cNvPr id="100" name="TextBox 113"/>
              <p:cNvSpPr/>
              <p:nvPr/>
            </p:nvSpPr>
            <p:spPr>
              <a:xfrm>
                <a:off x="5410080" y="1486080"/>
                <a:ext cx="160668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d0d0d"/>
                    </a:solidFill>
                    <a:latin typeface="Calibri"/>
                  </a:rPr>
                  <a:t>வன்முறைக்கு ஆளாகிறார்கள்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114"/>
              <p:cNvSpPr/>
              <p:nvPr/>
            </p:nvSpPr>
            <p:spPr>
              <a:xfrm>
                <a:off x="5641920" y="1219320"/>
                <a:ext cx="725400" cy="34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marL="512640" indent="-512640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4f81bd"/>
                    </a:solidFill>
                    <a:latin typeface="Calibri"/>
                  </a:rPr>
                  <a:t>16%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TextBox 111"/>
            <p:cNvSpPr/>
            <p:nvPr/>
          </p:nvSpPr>
          <p:spPr>
            <a:xfrm>
              <a:off x="5375160" y="4718160"/>
              <a:ext cx="1635480" cy="13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240" rIns="57240" tIns="28440" bIns="284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N" sz="2000" spc="-1" strike="noStrike">
                  <a:solidFill>
                    <a:srgbClr val="000000"/>
                  </a:solidFill>
                  <a:latin typeface="Calibri"/>
                </a:rPr>
                <a:t>24% </a:t>
              </a:r>
              <a:r>
                <a:rPr b="0" lang="en-IN" sz="1200" spc="-1" strike="noStrike">
                  <a:solidFill>
                    <a:srgbClr val="000000"/>
                  </a:solidFill>
                  <a:latin typeface="Calibri"/>
                </a:rPr>
                <a:t>பெண்கள் திருமணம் சார்ந்த வன்கொடுமை புகார்கள்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Picture 112" descr=""/>
            <p:cNvPicPr/>
            <p:nvPr/>
          </p:nvPicPr>
          <p:blipFill>
            <a:blip r:embed="rId4"/>
            <a:stretch/>
          </p:blipFill>
          <p:spPr>
            <a:xfrm>
              <a:off x="5806440" y="2611800"/>
              <a:ext cx="389160" cy="740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" name="Group 10"/>
          <p:cNvGrpSpPr/>
          <p:nvPr/>
        </p:nvGrpSpPr>
        <p:grpSpPr>
          <a:xfrm>
            <a:off x="3581280" y="1295280"/>
            <a:ext cx="1600200" cy="1219320"/>
            <a:chOff x="3581280" y="1295280"/>
            <a:chExt cx="1600200" cy="1219320"/>
          </a:xfrm>
        </p:grpSpPr>
        <p:sp>
          <p:nvSpPr>
            <p:cNvPr id="105" name="TextBox 85"/>
            <p:cNvSpPr/>
            <p:nvPr/>
          </p:nvSpPr>
          <p:spPr>
            <a:xfrm>
              <a:off x="3581280" y="1295280"/>
              <a:ext cx="152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f81bd"/>
                  </a:solidFill>
                  <a:latin typeface="Calibri"/>
                </a:rPr>
                <a:t>8-12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"/>
            <p:cNvSpPr/>
            <p:nvPr/>
          </p:nvSpPr>
          <p:spPr>
            <a:xfrm>
              <a:off x="3593880" y="1822320"/>
              <a:ext cx="1587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0d0d"/>
                  </a:solidFill>
                  <a:latin typeface="Calibri"/>
                </a:rPr>
                <a:t>மது மற்றும் புகைக்கிறார்கள்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3952800" y="1965240"/>
              <a:ext cx="1839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Picture 11" descr=""/>
          <p:cNvPicPr/>
          <p:nvPr/>
        </p:nvPicPr>
        <p:blipFill>
          <a:blip r:embed="rId5"/>
          <a:stretch/>
        </p:blipFill>
        <p:spPr>
          <a:xfrm>
            <a:off x="3813120" y="2590920"/>
            <a:ext cx="389160" cy="519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"/>
          <p:cNvPicPr/>
          <p:nvPr/>
        </p:nvPicPr>
        <p:blipFill>
          <a:blip r:embed="rId6"/>
          <a:stretch/>
        </p:blipFill>
        <p:spPr>
          <a:xfrm>
            <a:off x="4110120" y="2759040"/>
            <a:ext cx="257040" cy="343080"/>
          </a:xfrm>
          <a:prstGeom prst="rect">
            <a:avLst/>
          </a:prstGeom>
          <a:ln w="0">
            <a:noFill/>
          </a:ln>
        </p:spPr>
      </p:pic>
      <p:sp>
        <p:nvSpPr>
          <p:cNvPr id="110" name="Slide Number Placeholder 4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FDE3-D637-40A6-8AFF-631772F7B1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ooter Placeholder 42"/>
          <p:cNvSpPr/>
          <p:nvPr/>
        </p:nvSpPr>
        <p:spPr>
          <a:xfrm>
            <a:off x="62485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4"/>
          <p:cNvSpPr/>
          <p:nvPr/>
        </p:nvSpPr>
        <p:spPr>
          <a:xfrm>
            <a:off x="119160" y="209520"/>
            <a:ext cx="88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குழந்தைகளுக்கான முதலீடு ஏன் </a:t>
            </a: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"/>
          <p:cNvGrpSpPr/>
          <p:nvPr/>
        </p:nvGrpSpPr>
        <p:grpSpPr>
          <a:xfrm>
            <a:off x="533520" y="1219320"/>
            <a:ext cx="8008920" cy="4157640"/>
            <a:chOff x="533520" y="1219320"/>
            <a:chExt cx="8008920" cy="4157640"/>
          </a:xfrm>
        </p:grpSpPr>
        <p:pic>
          <p:nvPicPr>
            <p:cNvPr id="114" name="Picture 2" descr=""/>
            <p:cNvPicPr/>
            <p:nvPr/>
          </p:nvPicPr>
          <p:blipFill>
            <a:blip r:embed="rId1"/>
            <a:stretch/>
          </p:blipFill>
          <p:spPr>
            <a:xfrm>
              <a:off x="1106280" y="1219320"/>
              <a:ext cx="117216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3" descr=""/>
            <p:cNvPicPr/>
            <p:nvPr/>
          </p:nvPicPr>
          <p:blipFill>
            <a:blip r:embed="rId2"/>
            <a:stretch/>
          </p:blipFill>
          <p:spPr>
            <a:xfrm>
              <a:off x="3896280" y="1236240"/>
              <a:ext cx="1159200" cy="154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5" descr=""/>
            <p:cNvPicPr/>
            <p:nvPr/>
          </p:nvPicPr>
          <p:blipFill>
            <a:blip r:embed="rId3"/>
            <a:stretch/>
          </p:blipFill>
          <p:spPr>
            <a:xfrm>
              <a:off x="6724800" y="1236240"/>
              <a:ext cx="1172520" cy="15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Box 46"/>
            <p:cNvSpPr/>
            <p:nvPr/>
          </p:nvSpPr>
          <p:spPr>
            <a:xfrm>
              <a:off x="533520" y="2970360"/>
              <a:ext cx="2317680" cy="24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மும்மடங்கு பலன்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குழந்தைகளின் சுகாதாரத்தை பேணுதல்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எதிர்கால முதிர்பருவத்தினரின்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சுகாதாரத்தை பேணுதல்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அடுத்த தலைமுறையினரின்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சுகாதாரத்தை பேணுதல்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47"/>
            <p:cNvSpPr/>
            <p:nvPr/>
          </p:nvSpPr>
          <p:spPr>
            <a:xfrm>
              <a:off x="3091680" y="2970360"/>
              <a:ext cx="2547360" cy="20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ஒரு ஆண்டில் ஒரு குழந்தைக்கு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USD 5.2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வீதம் செலவிடப்படுகிறது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. 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இது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10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மடங்கு சமூக பொருளாதார இலாபத்தை த் தரும்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48"/>
            <p:cNvSpPr/>
            <p:nvPr/>
          </p:nvSpPr>
          <p:spPr>
            <a:xfrm>
              <a:off x="6079680" y="2970360"/>
              <a:ext cx="2462760" cy="20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உயர்நிலை பள்ளிக் கல்விக்கான முதலீடு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,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ஏற்படும் செலவீனத்தை விட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12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மடங்கு பொருளாதார லாபத்தைத் தரும்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TextBox 6"/>
          <p:cNvSpPr/>
          <p:nvPr/>
        </p:nvSpPr>
        <p:spPr>
          <a:xfrm>
            <a:off x="380880" y="6211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ource: Lancet,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7630-6A00-4CA1-BA04-5CB2E230EE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966960" y="152280"/>
            <a:ext cx="71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கருப்பொருள்கள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Diagram 4" descr=""/>
          <p:cNvPicPr/>
          <p:nvPr/>
        </p:nvPicPr>
        <p:blipFill>
          <a:blip r:embed="rId1"/>
          <a:stretch/>
        </p:blipFill>
        <p:spPr>
          <a:xfrm>
            <a:off x="241200" y="609480"/>
            <a:ext cx="8636040" cy="6363000"/>
          </a:xfrm>
          <a:prstGeom prst="rect">
            <a:avLst/>
          </a:prstGeom>
          <a:ln w="0">
            <a:noFill/>
          </a:ln>
        </p:spPr>
      </p:pic>
      <p:sp>
        <p:nvSpPr>
          <p:cNvPr id="1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89CA-B41C-4088-A9E4-DDBF8376A4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Title 1"/>
          <p:cNvGrpSpPr/>
          <p:nvPr/>
        </p:nvGrpSpPr>
        <p:grpSpPr>
          <a:xfrm>
            <a:off x="317520" y="571680"/>
            <a:ext cx="8648640" cy="6083280"/>
            <a:chOff x="317520" y="571680"/>
            <a:chExt cx="8648640" cy="6083280"/>
          </a:xfrm>
        </p:grpSpPr>
        <p:pic>
          <p:nvPicPr>
            <p:cNvPr id="128" name="Title 1" descr=""/>
            <p:cNvPicPr/>
            <p:nvPr/>
          </p:nvPicPr>
          <p:blipFill>
            <a:blip r:embed="rId1"/>
            <a:stretch/>
          </p:blipFill>
          <p:spPr>
            <a:xfrm>
              <a:off x="317520" y="571680"/>
              <a:ext cx="8648640" cy="608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2"/>
            <p:cNvSpPr/>
            <p:nvPr/>
          </p:nvSpPr>
          <p:spPr>
            <a:xfrm>
              <a:off x="380880" y="609480"/>
              <a:ext cx="8534520" cy="56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a-IN" sz="4800" spc="-1" strike="noStrike">
                  <a:solidFill>
                    <a:srgbClr val="ffffff"/>
                  </a:solidFill>
                  <a:latin typeface="Arial"/>
                </a:rPr>
                <a:t>தனியாள் ஆய்வுகள்</a:t>
              </a:r>
              <a:r>
                <a:rPr b="1" lang="en-US" sz="4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48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ஏதேனும் ஒரு தனியாள் ஆய்வு குறித்து விவாதிக்க</a:t>
              </a:r>
              <a:r>
                <a:rPr b="1" lang="en-US" sz="4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44C8-E054-45A5-A8D1-796BF10132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898989"/>
                </a:solidFill>
                <a:latin typeface="Calibri"/>
                <a:cs typeface="Latha"/>
              </a:rPr>
              <a:t>சுகாதாரமும் நலவாழ்வும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sarojyadav</dc:creator>
  <dc:description/>
  <dc:language>en-US</dc:language>
  <cp:lastModifiedBy>hp1</cp:lastModifiedBy>
  <dcterms:modified xsi:type="dcterms:W3CDTF">2019-10-01T11:29:28Z</dcterms:modified>
  <cp:revision>320</cp:revision>
  <dc:subject/>
  <dc:title>Health and Wellbeing in Schools</dc:title>
</cp:coreProperties>
</file>